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369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61.xml.rels" ContentType="application/vnd.openxmlformats-package.relationships+xml"/>
  <Override PartName="/ppt/slides/_rels/slide156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368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8.xml.rels" ContentType="application/vnd.openxmlformats-package.relationships+xml"/>
  <Override PartName="/ppt/slides/_rels/slide159.xml.rels" ContentType="application/vnd.openxmlformats-package.relationships+xml"/>
  <Override PartName="/ppt/slides/_rels/slide164.xml.rels" ContentType="application/vnd.openxmlformats-package.relationships+xml"/>
  <Override PartName="/ppt/slides/_rels/slide12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154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2.xml.rels" ContentType="application/vnd.openxmlformats-package.relationships+xml"/>
  <Override PartName="/ppt/slides/_rels/slide160.xml.rels" ContentType="application/vnd.openxmlformats-package.relationships+xml"/>
  <Override PartName="/ppt/slides/_rels/slide326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327.xml.rels" ContentType="application/vnd.openxmlformats-package.relationships+xml"/>
  <Override PartName="/ppt/slides/_rels/slide120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101.xml.rels" ContentType="application/vnd.openxmlformats-package.relationships+xml"/>
  <Override PartName="/ppt/slides/_rels/slide170.xml.rels" ContentType="application/vnd.openxmlformats-package.relationships+xml"/>
  <Override PartName="/ppt/slides/_rels/slide380.xml.rels" ContentType="application/vnd.openxmlformats-package.relationships+xml"/>
  <Override PartName="/ppt/slides/_rels/slide401.xml.rels" ContentType="application/vnd.openxmlformats-package.relationships+xml"/>
  <Override PartName="/ppt/slides/_rels/slide375.xml.rels" ContentType="application/vnd.openxmlformats-package.relationships+xml"/>
  <Override PartName="/ppt/slides/_rels/slide336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30.xml.rels" ContentType="application/vnd.openxmlformats-package.relationships+xml"/>
  <Override PartName="/ppt/slides/_rels/slide102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71.xml.rels" ContentType="application/vnd.openxmlformats-package.relationships+xml"/>
  <Override PartName="/ppt/slides/_rels/slide381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75.xml.rels" ContentType="application/vnd.openxmlformats-package.relationships+xml"/>
  <Override PartName="/ppt/slides/_rels/slide371.xml.rels" ContentType="application/vnd.openxmlformats-package.relationships+xml"/>
  <Override PartName="/ppt/slides/_rels/slide80.xml.rels" ContentType="application/vnd.openxmlformats-package.relationships+xml"/>
  <Override PartName="/ppt/slides/_rels/slide26.xml.rels" ContentType="application/vnd.openxmlformats-package.relationships+xml"/>
  <Override PartName="/ppt/slides/_rels/slide322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76.xml.rels" ContentType="application/vnd.openxmlformats-package.relationships+xml"/>
  <Override PartName="/ppt/slides/_rels/slide372.xml.rels" ContentType="application/vnd.openxmlformats-package.relationships+xml"/>
  <Override PartName="/ppt/slides/_rels/slide81.xml.rels" ContentType="application/vnd.openxmlformats-package.relationships+xml"/>
  <Override PartName="/ppt/slides/_rels/slide104.xml.rels" ContentType="application/vnd.openxmlformats-package.relationships+xml"/>
  <Override PartName="/ppt/slides/_rels/slide77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258.xml.rels" ContentType="application/vnd.openxmlformats-package.relationships+xml"/>
  <Override PartName="/ppt/slides/_rels/slide362.xml.rels" ContentType="application/vnd.openxmlformats-package.relationships+xml"/>
  <Override PartName="/ppt/slides/_rels/slide78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163.xml.rels" ContentType="application/vnd.openxmlformats-package.relationships+xml"/>
  <Override PartName="/ppt/slides/_rels/slide181.xml.rels" ContentType="application/vnd.openxmlformats-package.relationships+xml"/>
  <Override PartName="/ppt/slides/_rels/slide202.xml.rels" ContentType="application/vnd.openxmlformats-package.relationships+xml"/>
  <Override PartName="/ppt/slides/_rels/slide191.xml.rels" ContentType="application/vnd.openxmlformats-package.relationships+xml"/>
  <Override PartName="/ppt/slides/_rels/slide357.xml.rels" ContentType="application/vnd.openxmlformats-package.relationships+xml"/>
  <Override PartName="/ppt/slides/_rels/slide66.xml.rels" ContentType="application/vnd.openxmlformats-package.relationships+xml"/>
  <Override PartName="/ppt/slides/_rels/slide325.xml.rels" ContentType="application/vnd.openxmlformats-package.relationships+xml"/>
  <Override PartName="/ppt/slides/_rels/slide330.xml.rels" ContentType="application/vnd.openxmlformats-package.relationships+xml"/>
  <Override PartName="/ppt/slides/_rels/slide383.xml.rels" ContentType="application/vnd.openxmlformats-package.relationships+xml"/>
  <Override PartName="/ppt/slides/_rels/slide87.xml.rels" ContentType="application/vnd.openxmlformats-package.relationships+xml"/>
  <Override PartName="/ppt/slides/_rels/slide404.xml.rels" ContentType="application/vnd.openxmlformats-package.relationships+xml"/>
  <Override PartName="/ppt/slides/_rels/slide92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24.xml.rels" ContentType="application/vnd.openxmlformats-package.relationships+xml"/>
  <Override PartName="/ppt/slides/_rels/slide199.xml.rels" ContentType="application/vnd.openxmlformats-package.relationships+xml"/>
  <Override PartName="/ppt/slides/_rels/slide335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5.xml.rels" ContentType="application/vnd.openxmlformats-package.relationships+xml"/>
  <Override PartName="/ppt/slides/_rels/slide89.xml.rels" ContentType="application/vnd.openxmlformats-package.relationships+xml"/>
  <Override PartName="/ppt/slides/_rels/slide385.xml.rels" ContentType="application/vnd.openxmlformats-package.relationships+xml"/>
  <Override PartName="/ppt/slides/_rels/slide390.xml.rels" ContentType="application/vnd.openxmlformats-package.relationships+xml"/>
  <Override PartName="/ppt/slides/_rels/slide94.xml.rels" ContentType="application/vnd.openxmlformats-package.relationships+xml"/>
  <Override PartName="/ppt/slides/_rels/slide406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343.xml.rels" ContentType="application/vnd.openxmlformats-package.relationships+xml"/>
  <Override PartName="/ppt/slides/_rels/slide338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_rels/slide308.xml.rels" ContentType="application/vnd.openxmlformats-package.relationships+xml"/>
  <Override PartName="/ppt/slides/_rels/slide344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332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27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46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99.xml.rels" ContentType="application/vnd.openxmlformats-package.relationships+xml"/>
  <Override PartName="/ppt/slides/_rels/slide59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278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4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398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97.xml.rels" ContentType="application/vnd.openxmlformats-package.relationships+xml"/>
  <Override PartName="/ppt/slides/_rels/slide356.xml.rels" ContentType="application/vnd.openxmlformats-package.relationships+xml"/>
  <Override PartName="/ppt/slides/_rels/slide29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355.xml.rels" ContentType="application/vnd.openxmlformats-package.relationships+xml"/>
  <Override PartName="/ppt/slides/_rels/slide28.xml.rels" ContentType="application/vnd.openxmlformats-package.relationships+xml"/>
  <Override PartName="/ppt/slides/_rels/slide254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128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39.xml.rels" ContentType="application/vnd.openxmlformats-package.relationships+xml"/>
  <Override PartName="/ppt/slides/_rels/slide286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21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328.xml.rels" ContentType="application/vnd.openxmlformats-package.relationships+xml"/>
  <Override PartName="/ppt/slides/_rels/slide329.xml.rels" ContentType="application/vnd.openxmlformats-package.relationships+xml"/>
  <Override PartName="/ppt/slides/_rels/slide166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79.xml.rels" ContentType="application/vnd.openxmlformats-package.relationships+xml"/>
  <Override PartName="/ppt/slides/_rels/slide331.xml.rels" ContentType="application/vnd.openxmlformats-package.relationships+xml"/>
  <Override PartName="/ppt/slides/_rels/slide295.xml.rels" ContentType="application/vnd.openxmlformats-package.relationships+xml"/>
  <Override PartName="/ppt/slides/_rels/slide316.xml.rels" ContentType="application/vnd.openxmlformats-package.relationships+xml"/>
  <Override PartName="/ppt/slides/_rels/slide167.xml.rels" ContentType="application/vnd.openxmlformats-package.relationships+xml"/>
  <Override PartName="/ppt/slides/_rels/slide224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236.xml.rels" ContentType="application/vnd.openxmlformats-package.relationships+xml"/>
  <Override PartName="/ppt/slides/_rels/slide60.xml.rels" ContentType="application/vnd.openxmlformats-package.relationships+xml"/>
  <Override PartName="/ppt/slides/_rels/slide378.xml.rels" ContentType="application/vnd.openxmlformats-package.relationships+xml"/>
  <Override PartName="/ppt/slides/_rels/slide142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99.xml.rels" ContentType="application/vnd.openxmlformats-package.relationships+xml"/>
  <Override PartName="/ppt/slides/_rels/slide395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7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402.xml.rels" ContentType="application/vnd.openxmlformats-package.relationships+xml"/>
  <Override PartName="/ppt/slides/_rels/slide394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235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116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33.xml.rels" ContentType="application/vnd.openxmlformats-package.relationships+xml"/>
  <Override PartName="/ppt/slides/_rels/slide193.xml.rels" ContentType="application/vnd.openxmlformats-package.relationships+xml"/>
  <Override PartName="/ppt/slides/_rels/slide21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396.xml.rels" ContentType="application/vnd.openxmlformats-package.relationships+xml"/>
  <Override PartName="/ppt/slides/_rels/slide249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141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73.xml.rels" ContentType="application/vnd.openxmlformats-package.relationships+xml"/>
  <Override PartName="/ppt/slides/_rels/slide149.xml.rels" ContentType="application/vnd.openxmlformats-package.relationships+xml"/>
  <Override PartName="/ppt/slides/_rels/slide253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217.xml.rels" ContentType="application/vnd.openxmlformats-package.relationships+xml"/>
  <Override PartName="/ppt/slides/_rels/slide261.xml.rels" ContentType="application/vnd.openxmlformats-package.relationships+xml"/>
  <Override PartName="/ppt/slides/_rels/slide397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178.xml.rels" ContentType="application/vnd.openxmlformats-package.relationships+xml"/>
  <Override PartName="/ppt/slides/_rels/slide42.xml.rels" ContentType="application/vnd.openxmlformats-package.relationships+xml"/>
  <Override PartName="/ppt/slides/_rels/slide37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302.xml.rels" ContentType="application/vnd.openxmlformats-package.relationships+xml"/>
  <Override PartName="/ppt/slides/_rels/slide281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379.xml.rels" ContentType="application/vnd.openxmlformats-package.relationships+xml"/>
  <Override PartName="/ppt/slides/_rels/slide177.xml.rels" ContentType="application/vnd.openxmlformats-package.relationships+xml"/>
  <Override PartName="/ppt/slides/_rels/slide296.xml.rels" ContentType="application/vnd.openxmlformats-package.relationships+xml"/>
  <Override PartName="/ppt/slides/_rels/slide317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339.xml.rels" ContentType="application/vnd.openxmlformats-package.relationships+xml"/>
  <Override PartName="/ppt/slides/_rels/slide297.xml.rels" ContentType="application/vnd.openxmlformats-package.relationships+xml"/>
  <Override PartName="/ppt/slides/_rels/slide318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403.xml.rels" ContentType="application/vnd.openxmlformats-package.relationships+xml"/>
  <Override PartName="/ppt/slides/_rels/slide382.xml.rels" ContentType="application/vnd.openxmlformats-package.relationships+xml"/>
  <Override PartName="/ppt/slides/_rels/slide86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69.xml.rels" ContentType="application/vnd.openxmlformats-package.relationships+xml"/>
  <Override PartName="/ppt/slides/_rels/slide365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99.xml.rels" ContentType="application/vnd.openxmlformats-package.relationships+xml"/>
  <Override PartName="/ppt/slides/_rels/slide70.xml.rels" ContentType="application/vnd.openxmlformats-package.relationships+xml"/>
  <Override PartName="/ppt/slides/_rels/slide361.xml.rels" ContentType="application/vnd.openxmlformats-package.relationships+xml"/>
  <Override PartName="/ppt/slides/_rels/slide257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364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19.xml.rels" ContentType="application/vnd.openxmlformats-package.relationships+xml"/>
  <Override PartName="/ppt/slides/_rels/slide55.xml.rels" ContentType="application/vnd.openxmlformats-package.relationships+xml"/>
  <Override PartName="/ppt/slides/_rels/slide351.xml.rels" ContentType="application/vnd.openxmlformats-package.relationships+xml"/>
  <Override PartName="/ppt/slides/_rels/slide346.xml.rels" ContentType="application/vnd.openxmlformats-package.relationships+xml"/>
  <Override PartName="/ppt/slides/_rels/slide303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58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56.xml.rels" ContentType="application/vnd.openxmlformats-package.relationships+xml"/>
  <Override PartName="/ppt/slides/_rels/slide352.xml.rels" ContentType="application/vnd.openxmlformats-package.relationships+xml"/>
  <Override PartName="/ppt/slides/_rels/slide347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407.xml.rels" ContentType="application/vnd.openxmlformats-package.relationships+xml"/>
  <Override PartName="/ppt/slides/_rels/slide386.xml.rels" ContentType="application/vnd.openxmlformats-package.relationships+xml"/>
  <Override PartName="/ppt/slides/_rels/slide95.xml.rels" ContentType="application/vnd.openxmlformats-package.relationships+xml"/>
  <Override PartName="/ppt/slides/_rels/slide391.xml.rels" ContentType="application/vnd.openxmlformats-package.relationships+xml"/>
  <Override PartName="/ppt/slides/_rels/slide388.xml.rels" ContentType="application/vnd.openxmlformats-package.relationships+xml"/>
  <Override PartName="/ppt/slides/_rels/slide393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405.xml.rels" ContentType="application/vnd.openxmlformats-package.relationships+xml"/>
  <Override PartName="/ppt/slides/_rels/slide384.xml.rels" ContentType="application/vnd.openxmlformats-package.relationships+xml"/>
  <Override PartName="/ppt/slides/_rels/slide88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345.xml.rels" ContentType="application/vnd.openxmlformats-package.relationships+xml"/>
  <Override PartName="/ppt/slides/_rels/slide67.xml.rels" ContentType="application/vnd.openxmlformats-package.relationships+xml"/>
  <Override PartName="/ppt/slides/_rels/slide358.xml.rels" ContentType="application/vnd.openxmlformats-package.relationships+xml"/>
  <Override PartName="/ppt/slides/_rels/slide363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287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377.xml.rels" ContentType="application/vnd.openxmlformats-package.relationships+xml"/>
  <Override PartName="/ppt/slides/_rels/slide367.xml.rels" ContentType="application/vnd.openxmlformats-package.relationships+xml"/>
  <Override PartName="/ppt/slides/_rels/slide374.xml.rels" ContentType="application/vnd.openxmlformats-package.relationships+xml"/>
  <Override PartName="/ppt/slides/_rels/slide400.xml.rels" ContentType="application/vnd.openxmlformats-package.relationships+xml"/>
  <Override PartName="/ppt/slides/_rels/slide387.xml.rels" ContentType="application/vnd.openxmlformats-package.relationships+xml"/>
  <Override PartName="/ppt/slides/_rels/slide39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7.xml.rels" ContentType="application/vnd.openxmlformats-package.relationships+xml"/>
  <Override PartName="/ppt/slides/_rels/slide353.xml.rels" ContentType="application/vnd.openxmlformats-package.relationships+xml"/>
  <Override PartName="/ppt/slides/_rels/slide348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376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66.xml.rels" ContentType="application/vnd.openxmlformats-package.relationships+xml"/>
  <Override PartName="/ppt/slides/_rels/slide373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309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314.xml.rels" ContentType="application/vnd.openxmlformats-package.relationships+xml"/>
  <Override PartName="/ppt/slides/_rels/slide389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379.xml" ContentType="application/vnd.openxmlformats-officedocument.presentationml.slide+xml"/>
  <Override PartName="/ppt/slides/slide250.xml" ContentType="application/vnd.openxmlformats-officedocument.presentationml.slide+xml"/>
  <Override PartName="/ppt/slides/slide378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159.xml" ContentType="application/vnd.openxmlformats-officedocument.presentationml.slide+xml"/>
  <Override PartName="/ppt/slides/slide31.xml" ContentType="application/vnd.openxmlformats-officedocument.presentationml.slide+xml"/>
  <Override PartName="/ppt/slides/slide158.xml" ContentType="application/vnd.openxmlformats-officedocument.presentationml.slide+xml"/>
  <Override PartName="/ppt/slides/slide30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9.xml" ContentType="application/vnd.openxmlformats-officedocument.presentationml.slide+xml"/>
  <Override PartName="/ppt/slides/slide21.xml" ContentType="application/vnd.openxmlformats-officedocument.presentationml.slide+xml"/>
  <Override PartName="/ppt/slides/slide148.xml" ContentType="application/vnd.openxmlformats-officedocument.presentationml.slide+xml"/>
  <Override PartName="/ppt/slides/slide20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11.xml" ContentType="application/vnd.openxmlformats-officedocument.presentationml.slide+xml"/>
  <Override PartName="/ppt/slides/slide138.xml" ContentType="application/vnd.openxmlformats-officedocument.presentationml.slide+xml"/>
  <Override PartName="/ppt/slides/slide10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129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318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317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316.xml" ContentType="application/vnd.openxmlformats-officedocument.presentationml.slide+xml"/>
  <Override PartName="/ppt/slides/slide54.xml" ContentType="application/vnd.openxmlformats-officedocument.presentationml.slide+xml"/>
  <Override PartName="/ppt/slides/slide142.xml" ContentType="application/vnd.openxmlformats-officedocument.presentationml.slide+xml"/>
  <Override PartName="/ppt/slides/slide308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307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386.xml" ContentType="application/vnd.openxmlformats-officedocument.presentationml.slide+xml"/>
  <Override PartName="/ppt/slides/slide125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268.xml" ContentType="application/vnd.openxmlformats-officedocument.presentationml.slide+xml"/>
  <Override PartName="/ppt/slides/slide269.xml" ContentType="application/vnd.openxmlformats-officedocument.presentationml.slide+xml"/>
  <Override PartName="/ppt/slides/slide273.xml" ContentType="application/vnd.openxmlformats-officedocument.presentationml.slide+xml"/>
  <Override PartName="/ppt/slides/slide274.xml" ContentType="application/vnd.openxmlformats-officedocument.presentationml.slide+xml"/>
  <Override PartName="/ppt/slides/slide275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285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385.xml" ContentType="application/vnd.openxmlformats-officedocument.presentationml.slide+xml"/>
  <Override PartName="/ppt/slides/slide124.xml" ContentType="application/vnd.openxmlformats-officedocument.presentationml.slide+xml"/>
  <Override PartName="/ppt/slides/slide286.xml" ContentType="application/vnd.openxmlformats-officedocument.presentationml.slide+xml"/>
  <Override PartName="/ppt/slides/slide287.xml" ContentType="application/vnd.openxmlformats-officedocument.presentationml.slide+xml"/>
  <Override PartName="/ppt/slides/slide288.xml" ContentType="application/vnd.openxmlformats-officedocument.presentationml.slide+xml"/>
  <Override PartName="/ppt/slides/slide289.xml" ContentType="application/vnd.openxmlformats-officedocument.presentationml.slide+xml"/>
  <Override PartName="/ppt/slides/slide293.xml" ContentType="application/vnd.openxmlformats-officedocument.presentationml.slide+xml"/>
  <Override PartName="/ppt/slides/slide294.xml" ContentType="application/vnd.openxmlformats-officedocument.presentationml.slide+xml"/>
  <Override PartName="/ppt/slides/slide295.xml" ContentType="application/vnd.openxmlformats-officedocument.presentationml.slide+xml"/>
  <Override PartName="/ppt/slides/slide296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299.xml" ContentType="application/vnd.openxmlformats-officedocument.presentationml.slide+xml"/>
  <Override PartName="/ppt/slides/slide300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302.xml" ContentType="application/vnd.openxmlformats-officedocument.presentationml.slide+xml"/>
  <Override PartName="/ppt/slides/slide370.xml" ContentType="application/vnd.openxmlformats-officedocument.presentationml.slide+xml"/>
  <Override PartName="/ppt/slides/slide13.xml" ContentType="application/vnd.openxmlformats-officedocument.presentationml.slide+xml"/>
  <Override PartName="/ppt/slides/slide303.xml" ContentType="application/vnd.openxmlformats-officedocument.presentationml.slide+xml"/>
  <Override PartName="/ppt/slides/slide371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304.xml" ContentType="application/vnd.openxmlformats-officedocument.presentationml.slide+xml"/>
  <Override PartName="/ppt/slides/slide372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310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314.xml" ContentType="application/vnd.openxmlformats-officedocument.presentationml.slide+xml"/>
  <Override PartName="/ppt/slides/slide382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315.xml" ContentType="application/vnd.openxmlformats-officedocument.presentationml.slide+xml"/>
  <Override PartName="/ppt/slides/slide383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320.xml" ContentType="application/vnd.openxmlformats-officedocument.presentationml.slide+xml"/>
  <Override PartName="/ppt/slides/slide388.xml" ContentType="application/vnd.openxmlformats-officedocument.presentationml.slide+xml"/>
  <Override PartName="/ppt/slides/slide260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292.xml" ContentType="application/vnd.openxmlformats-officedocument.presentationml.slide+xml"/>
  <Override PartName="/ppt/slides/slide397.xml" ContentType="application/vnd.openxmlformats-officedocument.presentationml.slide+xml"/>
  <Override PartName="/ppt/slides/slide360.xml" ContentType="application/vnd.openxmlformats-officedocument.presentationml.slide+xml"/>
  <Override PartName="/ppt/slides/slide389.xml" ContentType="application/vnd.openxmlformats-officedocument.presentationml.slide+xml"/>
  <Override PartName="/ppt/slides/slide261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361.xml" ContentType="application/vnd.openxmlformats-officedocument.presentationml.slide+xml"/>
  <Override PartName="/ppt/slides/slide100.xml" ContentType="application/vnd.openxmlformats-officedocument.presentationml.slide+xml"/>
  <Override PartName="/ppt/slides/slide262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30.xml" ContentType="application/vnd.openxmlformats-officedocument.presentationml.slide+xml"/>
  <Override PartName="/ppt/slides/slide305.xml" ContentType="application/vnd.openxmlformats-officedocument.presentationml.slide+xml"/>
  <Override PartName="/ppt/slides/slide373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365.xml" ContentType="application/vnd.openxmlformats-officedocument.presentationml.slide+xml"/>
  <Override PartName="/ppt/slides/slide403.xml" ContentType="application/vnd.openxmlformats-officedocument.presentationml.slide+xml"/>
  <Override PartName="/ppt/slides/slide374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98.xml" ContentType="application/vnd.openxmlformats-officedocument.presentationml.slide+xml"/>
  <Override PartName="/ppt/slides/slide270.xml" ContentType="application/vnd.openxmlformats-officedocument.presentationml.slide+xml"/>
  <Override PartName="/ppt/slides/slide366.xml" ContentType="application/vnd.openxmlformats-officedocument.presentationml.slide+xml"/>
  <Override PartName="/ppt/slides/slide404.xml" ContentType="application/vnd.openxmlformats-officedocument.presentationml.slide+xml"/>
  <Override PartName="/ppt/slides/slide375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1.xml" ContentType="application/vnd.openxmlformats-officedocument.presentationml.slide+xml"/>
  <Override PartName="/ppt/slides/slide396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272.xml" ContentType="application/vnd.openxmlformats-officedocument.presentationml.slide+xml"/>
  <Override PartName="/ppt/slides/slide377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340.xml" ContentType="application/vnd.openxmlformats-officedocument.presentationml.slide+xml"/>
  <Override PartName="/ppt/slides/slide399.xml" ContentType="application/vnd.openxmlformats-officedocument.presentationml.slide+xml"/>
  <Override PartName="/ppt/slides/slide271.xml" ContentType="application/vnd.openxmlformats-officedocument.presentationml.slide+xml"/>
  <Override PartName="/ppt/slides/slide376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367.xml" ContentType="application/vnd.openxmlformats-officedocument.presentationml.slide+xml"/>
  <Override PartName="/ppt/slides/slide405.xml" ContentType="application/vnd.openxmlformats-officedocument.presentationml.slide+xml"/>
  <Override PartName="/ppt/slides/slide280.xml" ContentType="application/vnd.openxmlformats-officedocument.presentationml.slide+xml"/>
  <Override PartName="/ppt/slides/slide400.xml" ContentType="application/vnd.openxmlformats-officedocument.presentationml.slide+xml"/>
  <Override PartName="/ppt/slides/slide362.xml" ContentType="application/vnd.openxmlformats-officedocument.presentationml.slide+xml"/>
  <Override PartName="/ppt/slides/slide101.xml" ContentType="application/vnd.openxmlformats-officedocument.presentationml.slide+xml"/>
  <Override PartName="/ppt/slides/slide384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290.xml" ContentType="application/vnd.openxmlformats-officedocument.presentationml.slide+xml"/>
  <Override PartName="/ppt/slides/slide39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4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93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9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91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82.xml" ContentType="application/vnd.openxmlformats-officedocument.presentationml.slide+xml"/>
  <Override PartName="/ppt/slides/slide387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350.xml" ContentType="application/vnd.openxmlformats-officedocument.presentationml.slide+xml"/>
  <Override PartName="/ppt/slides/slide281.xml" ContentType="application/vnd.openxmlformats-officedocument.presentationml.slide+xml"/>
  <Override PartName="/ppt/slides/slide402.xml" ContentType="application/vnd.openxmlformats-officedocument.presentationml.slide+xml"/>
  <Override PartName="/ppt/slides/slide364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01.xml" ContentType="application/vnd.openxmlformats-officedocument.presentationml.slide+xml"/>
  <Override PartName="/ppt/slides/slide363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55.xml" ContentType="application/vnd.openxmlformats-officedocument.presentationml.slide+xml"/>
  <Override PartName="/ppt/slides/slide66.xml" ContentType="application/vnd.openxmlformats-officedocument.presentationml.slide+xml"/>
  <Override PartName="/ppt/slides/slide354.xml" ContentType="application/vnd.openxmlformats-officedocument.presentationml.slide+xml"/>
  <Override PartName="/ppt/slides/slide65.xml" ContentType="application/vnd.openxmlformats-officedocument.presentationml.slide+xml"/>
  <Override PartName="/ppt/slides/slide327.xml" ContentType="application/vnd.openxmlformats-officedocument.presentationml.slide+xml"/>
  <Override PartName="/ppt/slides/slide161.xml" ContentType="application/vnd.openxmlformats-officedocument.presentationml.slide+xml"/>
  <Override PartName="/ppt/slides/slide353.xml" ContentType="application/vnd.openxmlformats-officedocument.presentationml.slide+xml"/>
  <Override PartName="/ppt/slides/slide64.xml" ContentType="application/vnd.openxmlformats-officedocument.presentationml.slide+xml"/>
  <Override PartName="/ppt/slides/slide326.xml" ContentType="application/vnd.openxmlformats-officedocument.presentationml.slide+xml"/>
  <Override PartName="/ppt/slides/slide160.xml" ContentType="application/vnd.openxmlformats-officedocument.presentationml.slide+xml"/>
  <Override PartName="/ppt/slides/slide352.xml" ContentType="application/vnd.openxmlformats-officedocument.presentationml.slide+xml"/>
  <Override PartName="/ppt/slides/slide351.xml" ContentType="application/vnd.openxmlformats-officedocument.presentationml.slide+xml"/>
  <Override PartName="/ppt/slides/slide345.xml" ContentType="application/vnd.openxmlformats-officedocument.presentationml.slide+xml"/>
  <Override PartName="/ppt/slides/slide344.xml" ContentType="application/vnd.openxmlformats-officedocument.presentationml.slide+xml"/>
  <Override PartName="/ppt/slides/slide343.xml" ContentType="application/vnd.openxmlformats-officedocument.presentationml.slide+xml"/>
  <Override PartName="/ppt/slides/slide342.xml" ContentType="application/vnd.openxmlformats-officedocument.presentationml.slide+xml"/>
  <Override PartName="/ppt/slides/slide341.xml" ContentType="application/vnd.openxmlformats-officedocument.presentationml.slide+xml"/>
  <Override PartName="/ppt/slides/slide335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332.xml" ContentType="application/vnd.openxmlformats-officedocument.presentationml.slide+xml"/>
  <Override PartName="/ppt/slides/slide331.xml" ContentType="application/vnd.openxmlformats-officedocument.presentationml.slide+xml"/>
  <Override PartName="/ppt/slides/slide39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191.xml" ContentType="application/vnd.openxmlformats-officedocument.presentationml.slide+xml"/>
  <Override PartName="/ppt/slides/slide357.xml" ContentType="application/vnd.openxmlformats-officedocument.presentationml.slide+xml"/>
  <Override PartName="/ppt/slides/slide68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1.xml" ContentType="application/vnd.openxmlformats-officedocument.presentationml.slide+xml"/>
  <Override PartName="/ppt/slides/slide347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71.xml" ContentType="application/vnd.openxmlformats-officedocument.presentationml.slide+xml"/>
  <Override PartName="/ppt/slides/slide337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67.xml" ContentType="application/vnd.openxmlformats-officedocument.presentationml.slide+xml"/>
  <Override PartName="/ppt/slides/slide69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380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406.xml" ContentType="application/vnd.openxmlformats-officedocument.presentationml.slide+xml"/>
  <Override PartName="/ppt/slides/slide368.xml" ContentType="application/vnd.openxmlformats-officedocument.presentationml.slide+xml"/>
  <Override PartName="/ppt/slides/slide240.xml" ContentType="application/vnd.openxmlformats-officedocument.presentationml.slide+xml"/>
  <Override PartName="/ppt/slides/slide381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407.xml" ContentType="application/vnd.openxmlformats-officedocument.presentationml.slide+xml"/>
  <Override PartName="/ppt/slides/slide369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  <p:sldId id="387" r:id="rId145"/>
    <p:sldId id="388" r:id="rId146"/>
    <p:sldId id="389" r:id="rId147"/>
    <p:sldId id="390" r:id="rId148"/>
    <p:sldId id="391" r:id="rId149"/>
    <p:sldId id="392" r:id="rId150"/>
    <p:sldId id="393" r:id="rId151"/>
    <p:sldId id="394" r:id="rId152"/>
    <p:sldId id="395" r:id="rId153"/>
    <p:sldId id="396" r:id="rId154"/>
    <p:sldId id="397" r:id="rId155"/>
    <p:sldId id="398" r:id="rId156"/>
    <p:sldId id="399" r:id="rId157"/>
    <p:sldId id="400" r:id="rId158"/>
    <p:sldId id="401" r:id="rId159"/>
    <p:sldId id="402" r:id="rId160"/>
    <p:sldId id="403" r:id="rId161"/>
    <p:sldId id="404" r:id="rId162"/>
    <p:sldId id="405" r:id="rId163"/>
    <p:sldId id="406" r:id="rId164"/>
    <p:sldId id="407" r:id="rId165"/>
    <p:sldId id="408" r:id="rId166"/>
    <p:sldId id="409" r:id="rId167"/>
    <p:sldId id="410" r:id="rId168"/>
    <p:sldId id="411" r:id="rId169"/>
    <p:sldId id="412" r:id="rId170"/>
    <p:sldId id="413" r:id="rId171"/>
    <p:sldId id="414" r:id="rId172"/>
    <p:sldId id="415" r:id="rId173"/>
    <p:sldId id="416" r:id="rId174"/>
    <p:sldId id="417" r:id="rId175"/>
    <p:sldId id="418" r:id="rId176"/>
    <p:sldId id="419" r:id="rId177"/>
    <p:sldId id="420" r:id="rId178"/>
    <p:sldId id="421" r:id="rId179"/>
    <p:sldId id="422" r:id="rId180"/>
    <p:sldId id="423" r:id="rId181"/>
    <p:sldId id="424" r:id="rId182"/>
    <p:sldId id="425" r:id="rId183"/>
    <p:sldId id="426" r:id="rId184"/>
    <p:sldId id="427" r:id="rId185"/>
    <p:sldId id="428" r:id="rId186"/>
    <p:sldId id="429" r:id="rId187"/>
    <p:sldId id="430" r:id="rId188"/>
    <p:sldId id="431" r:id="rId189"/>
    <p:sldId id="432" r:id="rId190"/>
    <p:sldId id="433" r:id="rId191"/>
    <p:sldId id="434" r:id="rId192"/>
    <p:sldId id="435" r:id="rId193"/>
    <p:sldId id="436" r:id="rId194"/>
    <p:sldId id="437" r:id="rId195"/>
    <p:sldId id="438" r:id="rId196"/>
    <p:sldId id="439" r:id="rId197"/>
    <p:sldId id="440" r:id="rId198"/>
    <p:sldId id="441" r:id="rId199"/>
    <p:sldId id="442" r:id="rId200"/>
    <p:sldId id="443" r:id="rId201"/>
    <p:sldId id="444" r:id="rId202"/>
    <p:sldId id="445" r:id="rId203"/>
    <p:sldId id="446" r:id="rId204"/>
    <p:sldId id="447" r:id="rId205"/>
    <p:sldId id="448" r:id="rId206"/>
    <p:sldId id="449" r:id="rId207"/>
    <p:sldId id="450" r:id="rId208"/>
    <p:sldId id="451" r:id="rId209"/>
    <p:sldId id="452" r:id="rId210"/>
    <p:sldId id="453" r:id="rId211"/>
    <p:sldId id="454" r:id="rId212"/>
    <p:sldId id="455" r:id="rId213"/>
    <p:sldId id="456" r:id="rId214"/>
    <p:sldId id="457" r:id="rId215"/>
    <p:sldId id="458" r:id="rId216"/>
    <p:sldId id="459" r:id="rId217"/>
    <p:sldId id="460" r:id="rId218"/>
    <p:sldId id="461" r:id="rId219"/>
    <p:sldId id="462" r:id="rId220"/>
    <p:sldId id="463" r:id="rId221"/>
    <p:sldId id="464" r:id="rId222"/>
    <p:sldId id="465" r:id="rId223"/>
    <p:sldId id="466" r:id="rId224"/>
    <p:sldId id="467" r:id="rId225"/>
    <p:sldId id="468" r:id="rId226"/>
    <p:sldId id="469" r:id="rId227"/>
    <p:sldId id="470" r:id="rId228"/>
    <p:sldId id="471" r:id="rId229"/>
    <p:sldId id="472" r:id="rId230"/>
    <p:sldId id="473" r:id="rId231"/>
    <p:sldId id="474" r:id="rId232"/>
    <p:sldId id="475" r:id="rId233"/>
    <p:sldId id="476" r:id="rId234"/>
    <p:sldId id="477" r:id="rId235"/>
    <p:sldId id="478" r:id="rId236"/>
    <p:sldId id="479" r:id="rId237"/>
    <p:sldId id="480" r:id="rId238"/>
    <p:sldId id="481" r:id="rId239"/>
    <p:sldId id="482" r:id="rId240"/>
    <p:sldId id="483" r:id="rId241"/>
    <p:sldId id="484" r:id="rId242"/>
    <p:sldId id="485" r:id="rId243"/>
    <p:sldId id="486" r:id="rId244"/>
    <p:sldId id="487" r:id="rId245"/>
    <p:sldId id="488" r:id="rId246"/>
    <p:sldId id="489" r:id="rId247"/>
    <p:sldId id="490" r:id="rId248"/>
    <p:sldId id="491" r:id="rId249"/>
    <p:sldId id="492" r:id="rId250"/>
    <p:sldId id="493" r:id="rId251"/>
    <p:sldId id="494" r:id="rId252"/>
    <p:sldId id="495" r:id="rId253"/>
    <p:sldId id="496" r:id="rId254"/>
    <p:sldId id="497" r:id="rId255"/>
    <p:sldId id="498" r:id="rId256"/>
    <p:sldId id="499" r:id="rId257"/>
    <p:sldId id="500" r:id="rId258"/>
    <p:sldId id="501" r:id="rId259"/>
    <p:sldId id="502" r:id="rId260"/>
    <p:sldId id="503" r:id="rId261"/>
    <p:sldId id="504" r:id="rId262"/>
    <p:sldId id="505" r:id="rId263"/>
    <p:sldId id="506" r:id="rId264"/>
    <p:sldId id="507" r:id="rId265"/>
    <p:sldId id="508" r:id="rId266"/>
    <p:sldId id="509" r:id="rId267"/>
    <p:sldId id="510" r:id="rId268"/>
    <p:sldId id="511" r:id="rId269"/>
    <p:sldId id="512" r:id="rId270"/>
    <p:sldId id="513" r:id="rId271"/>
    <p:sldId id="514" r:id="rId272"/>
    <p:sldId id="515" r:id="rId273"/>
    <p:sldId id="516" r:id="rId274"/>
    <p:sldId id="517" r:id="rId275"/>
    <p:sldId id="518" r:id="rId276"/>
    <p:sldId id="519" r:id="rId277"/>
    <p:sldId id="520" r:id="rId278"/>
    <p:sldId id="521" r:id="rId279"/>
    <p:sldId id="522" r:id="rId280"/>
    <p:sldId id="523" r:id="rId281"/>
    <p:sldId id="524" r:id="rId282"/>
    <p:sldId id="525" r:id="rId283"/>
    <p:sldId id="526" r:id="rId284"/>
    <p:sldId id="527" r:id="rId285"/>
    <p:sldId id="528" r:id="rId286"/>
    <p:sldId id="529" r:id="rId287"/>
    <p:sldId id="530" r:id="rId288"/>
    <p:sldId id="531" r:id="rId289"/>
    <p:sldId id="532" r:id="rId290"/>
    <p:sldId id="533" r:id="rId291"/>
    <p:sldId id="534" r:id="rId292"/>
    <p:sldId id="535" r:id="rId293"/>
    <p:sldId id="536" r:id="rId294"/>
    <p:sldId id="537" r:id="rId295"/>
    <p:sldId id="538" r:id="rId296"/>
    <p:sldId id="539" r:id="rId297"/>
    <p:sldId id="540" r:id="rId298"/>
    <p:sldId id="541" r:id="rId299"/>
    <p:sldId id="542" r:id="rId300"/>
    <p:sldId id="543" r:id="rId301"/>
    <p:sldId id="544" r:id="rId302"/>
    <p:sldId id="545" r:id="rId303"/>
    <p:sldId id="546" r:id="rId304"/>
    <p:sldId id="547" r:id="rId305"/>
    <p:sldId id="548" r:id="rId306"/>
    <p:sldId id="549" r:id="rId307"/>
    <p:sldId id="550" r:id="rId308"/>
    <p:sldId id="551" r:id="rId309"/>
    <p:sldId id="552" r:id="rId310"/>
    <p:sldId id="553" r:id="rId311"/>
    <p:sldId id="554" r:id="rId312"/>
    <p:sldId id="555" r:id="rId313"/>
    <p:sldId id="556" r:id="rId314"/>
    <p:sldId id="557" r:id="rId315"/>
    <p:sldId id="558" r:id="rId316"/>
    <p:sldId id="559" r:id="rId317"/>
    <p:sldId id="560" r:id="rId318"/>
    <p:sldId id="561" r:id="rId319"/>
    <p:sldId id="562" r:id="rId320"/>
    <p:sldId id="563" r:id="rId321"/>
    <p:sldId id="564" r:id="rId322"/>
    <p:sldId id="565" r:id="rId323"/>
    <p:sldId id="566" r:id="rId324"/>
    <p:sldId id="567" r:id="rId325"/>
    <p:sldId id="568" r:id="rId326"/>
    <p:sldId id="569" r:id="rId327"/>
    <p:sldId id="570" r:id="rId328"/>
    <p:sldId id="571" r:id="rId329"/>
    <p:sldId id="572" r:id="rId330"/>
    <p:sldId id="573" r:id="rId331"/>
    <p:sldId id="574" r:id="rId332"/>
    <p:sldId id="575" r:id="rId333"/>
    <p:sldId id="576" r:id="rId334"/>
    <p:sldId id="577" r:id="rId335"/>
    <p:sldId id="578" r:id="rId336"/>
    <p:sldId id="579" r:id="rId337"/>
    <p:sldId id="580" r:id="rId338"/>
    <p:sldId id="581" r:id="rId339"/>
    <p:sldId id="582" r:id="rId340"/>
    <p:sldId id="583" r:id="rId341"/>
    <p:sldId id="584" r:id="rId342"/>
    <p:sldId id="585" r:id="rId343"/>
    <p:sldId id="586" r:id="rId344"/>
    <p:sldId id="587" r:id="rId345"/>
    <p:sldId id="588" r:id="rId346"/>
    <p:sldId id="589" r:id="rId347"/>
    <p:sldId id="590" r:id="rId348"/>
    <p:sldId id="591" r:id="rId349"/>
    <p:sldId id="592" r:id="rId350"/>
    <p:sldId id="593" r:id="rId351"/>
    <p:sldId id="594" r:id="rId352"/>
    <p:sldId id="595" r:id="rId353"/>
    <p:sldId id="596" r:id="rId354"/>
    <p:sldId id="597" r:id="rId355"/>
    <p:sldId id="598" r:id="rId356"/>
    <p:sldId id="599" r:id="rId357"/>
    <p:sldId id="600" r:id="rId358"/>
    <p:sldId id="601" r:id="rId359"/>
    <p:sldId id="602" r:id="rId360"/>
    <p:sldId id="603" r:id="rId361"/>
    <p:sldId id="604" r:id="rId362"/>
    <p:sldId id="605" r:id="rId363"/>
    <p:sldId id="606" r:id="rId364"/>
    <p:sldId id="607" r:id="rId365"/>
    <p:sldId id="608" r:id="rId366"/>
    <p:sldId id="609" r:id="rId367"/>
    <p:sldId id="610" r:id="rId368"/>
    <p:sldId id="611" r:id="rId369"/>
    <p:sldId id="612" r:id="rId370"/>
    <p:sldId id="613" r:id="rId371"/>
    <p:sldId id="614" r:id="rId372"/>
    <p:sldId id="615" r:id="rId373"/>
    <p:sldId id="616" r:id="rId374"/>
    <p:sldId id="617" r:id="rId375"/>
    <p:sldId id="618" r:id="rId376"/>
    <p:sldId id="619" r:id="rId377"/>
    <p:sldId id="620" r:id="rId378"/>
    <p:sldId id="621" r:id="rId379"/>
    <p:sldId id="622" r:id="rId380"/>
    <p:sldId id="623" r:id="rId381"/>
    <p:sldId id="624" r:id="rId382"/>
    <p:sldId id="625" r:id="rId383"/>
    <p:sldId id="626" r:id="rId384"/>
    <p:sldId id="627" r:id="rId385"/>
    <p:sldId id="628" r:id="rId386"/>
    <p:sldId id="629" r:id="rId387"/>
    <p:sldId id="630" r:id="rId388"/>
    <p:sldId id="631" r:id="rId389"/>
    <p:sldId id="632" r:id="rId390"/>
    <p:sldId id="633" r:id="rId391"/>
    <p:sldId id="634" r:id="rId392"/>
    <p:sldId id="635" r:id="rId393"/>
    <p:sldId id="636" r:id="rId394"/>
    <p:sldId id="637" r:id="rId395"/>
    <p:sldId id="638" r:id="rId396"/>
    <p:sldId id="639" r:id="rId397"/>
    <p:sldId id="640" r:id="rId398"/>
    <p:sldId id="641" r:id="rId399"/>
    <p:sldId id="642" r:id="rId400"/>
    <p:sldId id="643" r:id="rId401"/>
    <p:sldId id="644" r:id="rId402"/>
    <p:sldId id="645" r:id="rId403"/>
    <p:sldId id="646" r:id="rId404"/>
    <p:sldId id="647" r:id="rId405"/>
    <p:sldId id="648" r:id="rId406"/>
    <p:sldId id="649" r:id="rId407"/>
    <p:sldId id="650" r:id="rId408"/>
    <p:sldId id="651" r:id="rId409"/>
    <p:sldId id="652" r:id="rId410"/>
    <p:sldId id="653" r:id="rId411"/>
    <p:sldId id="654" r:id="rId412"/>
    <p:sldId id="655" r:id="rId413"/>
    <p:sldId id="656" r:id="rId414"/>
    <p:sldId id="657" r:id="rId415"/>
    <p:sldId id="658" r:id="rId416"/>
    <p:sldId id="659" r:id="rId417"/>
    <p:sldId id="660" r:id="rId418"/>
    <p:sldId id="661" r:id="rId419"/>
    <p:sldId id="662" r:id="rId4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slide" Target="slides/slide132.xml"/><Relationship Id="rId146" Type="http://schemas.openxmlformats.org/officeDocument/2006/relationships/slide" Target="slides/slide133.xml"/><Relationship Id="rId147" Type="http://schemas.openxmlformats.org/officeDocument/2006/relationships/slide" Target="slides/slide134.xml"/><Relationship Id="rId148" Type="http://schemas.openxmlformats.org/officeDocument/2006/relationships/slide" Target="slides/slide135.xml"/><Relationship Id="rId149" Type="http://schemas.openxmlformats.org/officeDocument/2006/relationships/slide" Target="slides/slide136.xml"/><Relationship Id="rId150" Type="http://schemas.openxmlformats.org/officeDocument/2006/relationships/slide" Target="slides/slide137.xml"/><Relationship Id="rId151" Type="http://schemas.openxmlformats.org/officeDocument/2006/relationships/slide" Target="slides/slide138.xml"/><Relationship Id="rId152" Type="http://schemas.openxmlformats.org/officeDocument/2006/relationships/slide" Target="slides/slide139.xml"/><Relationship Id="rId153" Type="http://schemas.openxmlformats.org/officeDocument/2006/relationships/slide" Target="slides/slide140.xml"/><Relationship Id="rId154" Type="http://schemas.openxmlformats.org/officeDocument/2006/relationships/slide" Target="slides/slide141.xml"/><Relationship Id="rId155" Type="http://schemas.openxmlformats.org/officeDocument/2006/relationships/slide" Target="slides/slide142.xml"/><Relationship Id="rId156" Type="http://schemas.openxmlformats.org/officeDocument/2006/relationships/slide" Target="slides/slide143.xml"/><Relationship Id="rId157" Type="http://schemas.openxmlformats.org/officeDocument/2006/relationships/slide" Target="slides/slide144.xml"/><Relationship Id="rId158" Type="http://schemas.openxmlformats.org/officeDocument/2006/relationships/slide" Target="slides/slide145.xml"/><Relationship Id="rId159" Type="http://schemas.openxmlformats.org/officeDocument/2006/relationships/slide" Target="slides/slide146.xml"/><Relationship Id="rId160" Type="http://schemas.openxmlformats.org/officeDocument/2006/relationships/slide" Target="slides/slide147.xml"/><Relationship Id="rId161" Type="http://schemas.openxmlformats.org/officeDocument/2006/relationships/slide" Target="slides/slide148.xml"/><Relationship Id="rId162" Type="http://schemas.openxmlformats.org/officeDocument/2006/relationships/slide" Target="slides/slide149.xml"/><Relationship Id="rId163" Type="http://schemas.openxmlformats.org/officeDocument/2006/relationships/slide" Target="slides/slide150.xml"/><Relationship Id="rId164" Type="http://schemas.openxmlformats.org/officeDocument/2006/relationships/slide" Target="slides/slide151.xml"/><Relationship Id="rId165" Type="http://schemas.openxmlformats.org/officeDocument/2006/relationships/slide" Target="slides/slide152.xml"/><Relationship Id="rId166" Type="http://schemas.openxmlformats.org/officeDocument/2006/relationships/slide" Target="slides/slide153.xml"/><Relationship Id="rId167" Type="http://schemas.openxmlformats.org/officeDocument/2006/relationships/slide" Target="slides/slide154.xml"/><Relationship Id="rId168" Type="http://schemas.openxmlformats.org/officeDocument/2006/relationships/slide" Target="slides/slide155.xml"/><Relationship Id="rId169" Type="http://schemas.openxmlformats.org/officeDocument/2006/relationships/slide" Target="slides/slide156.xml"/><Relationship Id="rId170" Type="http://schemas.openxmlformats.org/officeDocument/2006/relationships/slide" Target="slides/slide157.xml"/><Relationship Id="rId171" Type="http://schemas.openxmlformats.org/officeDocument/2006/relationships/slide" Target="slides/slide158.xml"/><Relationship Id="rId172" Type="http://schemas.openxmlformats.org/officeDocument/2006/relationships/slide" Target="slides/slide159.xml"/><Relationship Id="rId173" Type="http://schemas.openxmlformats.org/officeDocument/2006/relationships/slide" Target="slides/slide160.xml"/><Relationship Id="rId174" Type="http://schemas.openxmlformats.org/officeDocument/2006/relationships/slide" Target="slides/slide161.xml"/><Relationship Id="rId175" Type="http://schemas.openxmlformats.org/officeDocument/2006/relationships/slide" Target="slides/slide162.xml"/><Relationship Id="rId176" Type="http://schemas.openxmlformats.org/officeDocument/2006/relationships/slide" Target="slides/slide163.xml"/><Relationship Id="rId177" Type="http://schemas.openxmlformats.org/officeDocument/2006/relationships/slide" Target="slides/slide164.xml"/><Relationship Id="rId178" Type="http://schemas.openxmlformats.org/officeDocument/2006/relationships/slide" Target="slides/slide165.xml"/><Relationship Id="rId179" Type="http://schemas.openxmlformats.org/officeDocument/2006/relationships/slide" Target="slides/slide166.xml"/><Relationship Id="rId180" Type="http://schemas.openxmlformats.org/officeDocument/2006/relationships/slide" Target="slides/slide167.xml"/><Relationship Id="rId181" Type="http://schemas.openxmlformats.org/officeDocument/2006/relationships/slide" Target="slides/slide168.xml"/><Relationship Id="rId182" Type="http://schemas.openxmlformats.org/officeDocument/2006/relationships/slide" Target="slides/slide169.xml"/><Relationship Id="rId183" Type="http://schemas.openxmlformats.org/officeDocument/2006/relationships/slide" Target="slides/slide170.xml"/><Relationship Id="rId184" Type="http://schemas.openxmlformats.org/officeDocument/2006/relationships/slide" Target="slides/slide171.xml"/><Relationship Id="rId185" Type="http://schemas.openxmlformats.org/officeDocument/2006/relationships/slide" Target="slides/slide172.xml"/><Relationship Id="rId186" Type="http://schemas.openxmlformats.org/officeDocument/2006/relationships/slide" Target="slides/slide173.xml"/><Relationship Id="rId187" Type="http://schemas.openxmlformats.org/officeDocument/2006/relationships/slide" Target="slides/slide174.xml"/><Relationship Id="rId188" Type="http://schemas.openxmlformats.org/officeDocument/2006/relationships/slide" Target="slides/slide175.xml"/><Relationship Id="rId189" Type="http://schemas.openxmlformats.org/officeDocument/2006/relationships/slide" Target="slides/slide176.xml"/><Relationship Id="rId190" Type="http://schemas.openxmlformats.org/officeDocument/2006/relationships/slide" Target="slides/slide177.xml"/><Relationship Id="rId191" Type="http://schemas.openxmlformats.org/officeDocument/2006/relationships/slide" Target="slides/slide178.xml"/><Relationship Id="rId192" Type="http://schemas.openxmlformats.org/officeDocument/2006/relationships/slide" Target="slides/slide179.xml"/><Relationship Id="rId193" Type="http://schemas.openxmlformats.org/officeDocument/2006/relationships/slide" Target="slides/slide180.xml"/><Relationship Id="rId194" Type="http://schemas.openxmlformats.org/officeDocument/2006/relationships/slide" Target="slides/slide181.xml"/><Relationship Id="rId195" Type="http://schemas.openxmlformats.org/officeDocument/2006/relationships/slide" Target="slides/slide182.xml"/><Relationship Id="rId196" Type="http://schemas.openxmlformats.org/officeDocument/2006/relationships/slide" Target="slides/slide183.xml"/><Relationship Id="rId197" Type="http://schemas.openxmlformats.org/officeDocument/2006/relationships/slide" Target="slides/slide184.xml"/><Relationship Id="rId198" Type="http://schemas.openxmlformats.org/officeDocument/2006/relationships/slide" Target="slides/slide185.xml"/><Relationship Id="rId199" Type="http://schemas.openxmlformats.org/officeDocument/2006/relationships/slide" Target="slides/slide186.xml"/><Relationship Id="rId200" Type="http://schemas.openxmlformats.org/officeDocument/2006/relationships/slide" Target="slides/slide187.xml"/><Relationship Id="rId201" Type="http://schemas.openxmlformats.org/officeDocument/2006/relationships/slide" Target="slides/slide188.xml"/><Relationship Id="rId202" Type="http://schemas.openxmlformats.org/officeDocument/2006/relationships/slide" Target="slides/slide189.xml"/><Relationship Id="rId203" Type="http://schemas.openxmlformats.org/officeDocument/2006/relationships/slide" Target="slides/slide190.xml"/><Relationship Id="rId204" Type="http://schemas.openxmlformats.org/officeDocument/2006/relationships/slide" Target="slides/slide191.xml"/><Relationship Id="rId205" Type="http://schemas.openxmlformats.org/officeDocument/2006/relationships/slide" Target="slides/slide192.xml"/><Relationship Id="rId206" Type="http://schemas.openxmlformats.org/officeDocument/2006/relationships/slide" Target="slides/slide193.xml"/><Relationship Id="rId207" Type="http://schemas.openxmlformats.org/officeDocument/2006/relationships/slide" Target="slides/slide194.xml"/><Relationship Id="rId208" Type="http://schemas.openxmlformats.org/officeDocument/2006/relationships/slide" Target="slides/slide195.xml"/><Relationship Id="rId209" Type="http://schemas.openxmlformats.org/officeDocument/2006/relationships/slide" Target="slides/slide196.xml"/><Relationship Id="rId210" Type="http://schemas.openxmlformats.org/officeDocument/2006/relationships/slide" Target="slides/slide197.xml"/><Relationship Id="rId211" Type="http://schemas.openxmlformats.org/officeDocument/2006/relationships/slide" Target="slides/slide198.xml"/><Relationship Id="rId212" Type="http://schemas.openxmlformats.org/officeDocument/2006/relationships/slide" Target="slides/slide199.xml"/><Relationship Id="rId213" Type="http://schemas.openxmlformats.org/officeDocument/2006/relationships/slide" Target="slides/slide200.xml"/><Relationship Id="rId214" Type="http://schemas.openxmlformats.org/officeDocument/2006/relationships/slide" Target="slides/slide201.xml"/><Relationship Id="rId215" Type="http://schemas.openxmlformats.org/officeDocument/2006/relationships/slide" Target="slides/slide202.xml"/><Relationship Id="rId216" Type="http://schemas.openxmlformats.org/officeDocument/2006/relationships/slide" Target="slides/slide203.xml"/><Relationship Id="rId217" Type="http://schemas.openxmlformats.org/officeDocument/2006/relationships/slide" Target="slides/slide204.xml"/><Relationship Id="rId218" Type="http://schemas.openxmlformats.org/officeDocument/2006/relationships/slide" Target="slides/slide205.xml"/><Relationship Id="rId219" Type="http://schemas.openxmlformats.org/officeDocument/2006/relationships/slide" Target="slides/slide206.xml"/><Relationship Id="rId220" Type="http://schemas.openxmlformats.org/officeDocument/2006/relationships/slide" Target="slides/slide207.xml"/><Relationship Id="rId221" Type="http://schemas.openxmlformats.org/officeDocument/2006/relationships/slide" Target="slides/slide208.xml"/><Relationship Id="rId222" Type="http://schemas.openxmlformats.org/officeDocument/2006/relationships/slide" Target="slides/slide209.xml"/><Relationship Id="rId223" Type="http://schemas.openxmlformats.org/officeDocument/2006/relationships/slide" Target="slides/slide210.xml"/><Relationship Id="rId224" Type="http://schemas.openxmlformats.org/officeDocument/2006/relationships/slide" Target="slides/slide211.xml"/><Relationship Id="rId225" Type="http://schemas.openxmlformats.org/officeDocument/2006/relationships/slide" Target="slides/slide212.xml"/><Relationship Id="rId226" Type="http://schemas.openxmlformats.org/officeDocument/2006/relationships/slide" Target="slides/slide213.xml"/><Relationship Id="rId227" Type="http://schemas.openxmlformats.org/officeDocument/2006/relationships/slide" Target="slides/slide214.xml"/><Relationship Id="rId228" Type="http://schemas.openxmlformats.org/officeDocument/2006/relationships/slide" Target="slides/slide215.xml"/><Relationship Id="rId229" Type="http://schemas.openxmlformats.org/officeDocument/2006/relationships/slide" Target="slides/slide216.xml"/><Relationship Id="rId230" Type="http://schemas.openxmlformats.org/officeDocument/2006/relationships/slide" Target="slides/slide217.xml"/><Relationship Id="rId231" Type="http://schemas.openxmlformats.org/officeDocument/2006/relationships/slide" Target="slides/slide218.xml"/><Relationship Id="rId232" Type="http://schemas.openxmlformats.org/officeDocument/2006/relationships/slide" Target="slides/slide219.xml"/><Relationship Id="rId233" Type="http://schemas.openxmlformats.org/officeDocument/2006/relationships/slide" Target="slides/slide220.xml"/><Relationship Id="rId234" Type="http://schemas.openxmlformats.org/officeDocument/2006/relationships/slide" Target="slides/slide221.xml"/><Relationship Id="rId235" Type="http://schemas.openxmlformats.org/officeDocument/2006/relationships/slide" Target="slides/slide222.xml"/><Relationship Id="rId236" Type="http://schemas.openxmlformats.org/officeDocument/2006/relationships/slide" Target="slides/slide223.xml"/><Relationship Id="rId237" Type="http://schemas.openxmlformats.org/officeDocument/2006/relationships/slide" Target="slides/slide224.xml"/><Relationship Id="rId238" Type="http://schemas.openxmlformats.org/officeDocument/2006/relationships/slide" Target="slides/slide225.xml"/><Relationship Id="rId239" Type="http://schemas.openxmlformats.org/officeDocument/2006/relationships/slide" Target="slides/slide226.xml"/><Relationship Id="rId240" Type="http://schemas.openxmlformats.org/officeDocument/2006/relationships/slide" Target="slides/slide227.xml"/><Relationship Id="rId241" Type="http://schemas.openxmlformats.org/officeDocument/2006/relationships/slide" Target="slides/slide228.xml"/><Relationship Id="rId242" Type="http://schemas.openxmlformats.org/officeDocument/2006/relationships/slide" Target="slides/slide229.xml"/><Relationship Id="rId243" Type="http://schemas.openxmlformats.org/officeDocument/2006/relationships/slide" Target="slides/slide230.xml"/><Relationship Id="rId244" Type="http://schemas.openxmlformats.org/officeDocument/2006/relationships/slide" Target="slides/slide231.xml"/><Relationship Id="rId245" Type="http://schemas.openxmlformats.org/officeDocument/2006/relationships/slide" Target="slides/slide232.xml"/><Relationship Id="rId246" Type="http://schemas.openxmlformats.org/officeDocument/2006/relationships/slide" Target="slides/slide233.xml"/><Relationship Id="rId247" Type="http://schemas.openxmlformats.org/officeDocument/2006/relationships/slide" Target="slides/slide234.xml"/><Relationship Id="rId248" Type="http://schemas.openxmlformats.org/officeDocument/2006/relationships/slide" Target="slides/slide235.xml"/><Relationship Id="rId249" Type="http://schemas.openxmlformats.org/officeDocument/2006/relationships/slide" Target="slides/slide236.xml"/><Relationship Id="rId250" Type="http://schemas.openxmlformats.org/officeDocument/2006/relationships/slide" Target="slides/slide237.xml"/><Relationship Id="rId251" Type="http://schemas.openxmlformats.org/officeDocument/2006/relationships/slide" Target="slides/slide238.xml"/><Relationship Id="rId252" Type="http://schemas.openxmlformats.org/officeDocument/2006/relationships/slide" Target="slides/slide239.xml"/><Relationship Id="rId253" Type="http://schemas.openxmlformats.org/officeDocument/2006/relationships/slide" Target="slides/slide240.xml"/><Relationship Id="rId254" Type="http://schemas.openxmlformats.org/officeDocument/2006/relationships/slide" Target="slides/slide241.xml"/><Relationship Id="rId255" Type="http://schemas.openxmlformats.org/officeDocument/2006/relationships/slide" Target="slides/slide242.xml"/><Relationship Id="rId256" Type="http://schemas.openxmlformats.org/officeDocument/2006/relationships/slide" Target="slides/slide243.xml"/><Relationship Id="rId257" Type="http://schemas.openxmlformats.org/officeDocument/2006/relationships/slide" Target="slides/slide244.xml"/><Relationship Id="rId258" Type="http://schemas.openxmlformats.org/officeDocument/2006/relationships/slide" Target="slides/slide245.xml"/><Relationship Id="rId259" Type="http://schemas.openxmlformats.org/officeDocument/2006/relationships/slide" Target="slides/slide246.xml"/><Relationship Id="rId260" Type="http://schemas.openxmlformats.org/officeDocument/2006/relationships/slide" Target="slides/slide247.xml"/><Relationship Id="rId261" Type="http://schemas.openxmlformats.org/officeDocument/2006/relationships/slide" Target="slides/slide248.xml"/><Relationship Id="rId262" Type="http://schemas.openxmlformats.org/officeDocument/2006/relationships/slide" Target="slides/slide249.xml"/><Relationship Id="rId263" Type="http://schemas.openxmlformats.org/officeDocument/2006/relationships/slide" Target="slides/slide250.xml"/><Relationship Id="rId264" Type="http://schemas.openxmlformats.org/officeDocument/2006/relationships/slide" Target="slides/slide251.xml"/><Relationship Id="rId265" Type="http://schemas.openxmlformats.org/officeDocument/2006/relationships/slide" Target="slides/slide252.xml"/><Relationship Id="rId266" Type="http://schemas.openxmlformats.org/officeDocument/2006/relationships/slide" Target="slides/slide253.xml"/><Relationship Id="rId267" Type="http://schemas.openxmlformats.org/officeDocument/2006/relationships/slide" Target="slides/slide254.xml"/><Relationship Id="rId268" Type="http://schemas.openxmlformats.org/officeDocument/2006/relationships/slide" Target="slides/slide255.xml"/><Relationship Id="rId269" Type="http://schemas.openxmlformats.org/officeDocument/2006/relationships/slide" Target="slides/slide256.xml"/><Relationship Id="rId270" Type="http://schemas.openxmlformats.org/officeDocument/2006/relationships/slide" Target="slides/slide257.xml"/><Relationship Id="rId271" Type="http://schemas.openxmlformats.org/officeDocument/2006/relationships/slide" Target="slides/slide258.xml"/><Relationship Id="rId272" Type="http://schemas.openxmlformats.org/officeDocument/2006/relationships/slide" Target="slides/slide259.xml"/><Relationship Id="rId273" Type="http://schemas.openxmlformats.org/officeDocument/2006/relationships/slide" Target="slides/slide260.xml"/><Relationship Id="rId274" Type="http://schemas.openxmlformats.org/officeDocument/2006/relationships/slide" Target="slides/slide261.xml"/><Relationship Id="rId275" Type="http://schemas.openxmlformats.org/officeDocument/2006/relationships/slide" Target="slides/slide262.xml"/><Relationship Id="rId276" Type="http://schemas.openxmlformats.org/officeDocument/2006/relationships/slide" Target="slides/slide263.xml"/><Relationship Id="rId277" Type="http://schemas.openxmlformats.org/officeDocument/2006/relationships/slide" Target="slides/slide264.xml"/><Relationship Id="rId278" Type="http://schemas.openxmlformats.org/officeDocument/2006/relationships/slide" Target="slides/slide265.xml"/><Relationship Id="rId279" Type="http://schemas.openxmlformats.org/officeDocument/2006/relationships/slide" Target="slides/slide266.xml"/><Relationship Id="rId280" Type="http://schemas.openxmlformats.org/officeDocument/2006/relationships/slide" Target="slides/slide267.xml"/><Relationship Id="rId281" Type="http://schemas.openxmlformats.org/officeDocument/2006/relationships/slide" Target="slides/slide268.xml"/><Relationship Id="rId282" Type="http://schemas.openxmlformats.org/officeDocument/2006/relationships/slide" Target="slides/slide269.xml"/><Relationship Id="rId283" Type="http://schemas.openxmlformats.org/officeDocument/2006/relationships/slide" Target="slides/slide270.xml"/><Relationship Id="rId284" Type="http://schemas.openxmlformats.org/officeDocument/2006/relationships/slide" Target="slides/slide271.xml"/><Relationship Id="rId285" Type="http://schemas.openxmlformats.org/officeDocument/2006/relationships/slide" Target="slides/slide272.xml"/><Relationship Id="rId286" Type="http://schemas.openxmlformats.org/officeDocument/2006/relationships/slide" Target="slides/slide273.xml"/><Relationship Id="rId287" Type="http://schemas.openxmlformats.org/officeDocument/2006/relationships/slide" Target="slides/slide274.xml"/><Relationship Id="rId288" Type="http://schemas.openxmlformats.org/officeDocument/2006/relationships/slide" Target="slides/slide275.xml"/><Relationship Id="rId289" Type="http://schemas.openxmlformats.org/officeDocument/2006/relationships/slide" Target="slides/slide276.xml"/><Relationship Id="rId290" Type="http://schemas.openxmlformats.org/officeDocument/2006/relationships/slide" Target="slides/slide277.xml"/><Relationship Id="rId291" Type="http://schemas.openxmlformats.org/officeDocument/2006/relationships/slide" Target="slides/slide278.xml"/><Relationship Id="rId292" Type="http://schemas.openxmlformats.org/officeDocument/2006/relationships/slide" Target="slides/slide279.xml"/><Relationship Id="rId293" Type="http://schemas.openxmlformats.org/officeDocument/2006/relationships/slide" Target="slides/slide280.xml"/><Relationship Id="rId294" Type="http://schemas.openxmlformats.org/officeDocument/2006/relationships/slide" Target="slides/slide281.xml"/><Relationship Id="rId295" Type="http://schemas.openxmlformats.org/officeDocument/2006/relationships/slide" Target="slides/slide282.xml"/><Relationship Id="rId296" Type="http://schemas.openxmlformats.org/officeDocument/2006/relationships/slide" Target="slides/slide283.xml"/><Relationship Id="rId297" Type="http://schemas.openxmlformats.org/officeDocument/2006/relationships/slide" Target="slides/slide284.xml"/><Relationship Id="rId298" Type="http://schemas.openxmlformats.org/officeDocument/2006/relationships/slide" Target="slides/slide285.xml"/><Relationship Id="rId299" Type="http://schemas.openxmlformats.org/officeDocument/2006/relationships/slide" Target="slides/slide286.xml"/><Relationship Id="rId300" Type="http://schemas.openxmlformats.org/officeDocument/2006/relationships/slide" Target="slides/slide287.xml"/><Relationship Id="rId301" Type="http://schemas.openxmlformats.org/officeDocument/2006/relationships/slide" Target="slides/slide288.xml"/><Relationship Id="rId302" Type="http://schemas.openxmlformats.org/officeDocument/2006/relationships/slide" Target="slides/slide289.xml"/><Relationship Id="rId303" Type="http://schemas.openxmlformats.org/officeDocument/2006/relationships/slide" Target="slides/slide290.xml"/><Relationship Id="rId304" Type="http://schemas.openxmlformats.org/officeDocument/2006/relationships/slide" Target="slides/slide291.xml"/><Relationship Id="rId305" Type="http://schemas.openxmlformats.org/officeDocument/2006/relationships/slide" Target="slides/slide292.xml"/><Relationship Id="rId306" Type="http://schemas.openxmlformats.org/officeDocument/2006/relationships/slide" Target="slides/slide293.xml"/><Relationship Id="rId307" Type="http://schemas.openxmlformats.org/officeDocument/2006/relationships/slide" Target="slides/slide294.xml"/><Relationship Id="rId308" Type="http://schemas.openxmlformats.org/officeDocument/2006/relationships/slide" Target="slides/slide295.xml"/><Relationship Id="rId309" Type="http://schemas.openxmlformats.org/officeDocument/2006/relationships/slide" Target="slides/slide296.xml"/><Relationship Id="rId310" Type="http://schemas.openxmlformats.org/officeDocument/2006/relationships/slide" Target="slides/slide297.xml"/><Relationship Id="rId311" Type="http://schemas.openxmlformats.org/officeDocument/2006/relationships/slide" Target="slides/slide298.xml"/><Relationship Id="rId312" Type="http://schemas.openxmlformats.org/officeDocument/2006/relationships/slide" Target="slides/slide299.xml"/><Relationship Id="rId313" Type="http://schemas.openxmlformats.org/officeDocument/2006/relationships/slide" Target="slides/slide300.xml"/><Relationship Id="rId314" Type="http://schemas.openxmlformats.org/officeDocument/2006/relationships/slide" Target="slides/slide301.xml"/><Relationship Id="rId315" Type="http://schemas.openxmlformats.org/officeDocument/2006/relationships/slide" Target="slides/slide302.xml"/><Relationship Id="rId316" Type="http://schemas.openxmlformats.org/officeDocument/2006/relationships/slide" Target="slides/slide303.xml"/><Relationship Id="rId317" Type="http://schemas.openxmlformats.org/officeDocument/2006/relationships/slide" Target="slides/slide304.xml"/><Relationship Id="rId318" Type="http://schemas.openxmlformats.org/officeDocument/2006/relationships/slide" Target="slides/slide305.xml"/><Relationship Id="rId319" Type="http://schemas.openxmlformats.org/officeDocument/2006/relationships/slide" Target="slides/slide306.xml"/><Relationship Id="rId320" Type="http://schemas.openxmlformats.org/officeDocument/2006/relationships/slide" Target="slides/slide307.xml"/><Relationship Id="rId321" Type="http://schemas.openxmlformats.org/officeDocument/2006/relationships/slide" Target="slides/slide308.xml"/><Relationship Id="rId322" Type="http://schemas.openxmlformats.org/officeDocument/2006/relationships/slide" Target="slides/slide309.xml"/><Relationship Id="rId323" Type="http://schemas.openxmlformats.org/officeDocument/2006/relationships/slide" Target="slides/slide310.xml"/><Relationship Id="rId324" Type="http://schemas.openxmlformats.org/officeDocument/2006/relationships/slide" Target="slides/slide311.xml"/><Relationship Id="rId325" Type="http://schemas.openxmlformats.org/officeDocument/2006/relationships/slide" Target="slides/slide312.xml"/><Relationship Id="rId326" Type="http://schemas.openxmlformats.org/officeDocument/2006/relationships/slide" Target="slides/slide313.xml"/><Relationship Id="rId327" Type="http://schemas.openxmlformats.org/officeDocument/2006/relationships/slide" Target="slides/slide314.xml"/><Relationship Id="rId328" Type="http://schemas.openxmlformats.org/officeDocument/2006/relationships/slide" Target="slides/slide315.xml"/><Relationship Id="rId329" Type="http://schemas.openxmlformats.org/officeDocument/2006/relationships/slide" Target="slides/slide316.xml"/><Relationship Id="rId330" Type="http://schemas.openxmlformats.org/officeDocument/2006/relationships/slide" Target="slides/slide317.xml"/><Relationship Id="rId331" Type="http://schemas.openxmlformats.org/officeDocument/2006/relationships/slide" Target="slides/slide318.xml"/><Relationship Id="rId332" Type="http://schemas.openxmlformats.org/officeDocument/2006/relationships/slide" Target="slides/slide319.xml"/><Relationship Id="rId333" Type="http://schemas.openxmlformats.org/officeDocument/2006/relationships/slide" Target="slides/slide320.xml"/><Relationship Id="rId334" Type="http://schemas.openxmlformats.org/officeDocument/2006/relationships/slide" Target="slides/slide321.xml"/><Relationship Id="rId335" Type="http://schemas.openxmlformats.org/officeDocument/2006/relationships/slide" Target="slides/slide322.xml"/><Relationship Id="rId336" Type="http://schemas.openxmlformats.org/officeDocument/2006/relationships/slide" Target="slides/slide323.xml"/><Relationship Id="rId337" Type="http://schemas.openxmlformats.org/officeDocument/2006/relationships/slide" Target="slides/slide324.xml"/><Relationship Id="rId338" Type="http://schemas.openxmlformats.org/officeDocument/2006/relationships/slide" Target="slides/slide325.xml"/><Relationship Id="rId339" Type="http://schemas.openxmlformats.org/officeDocument/2006/relationships/slide" Target="slides/slide326.xml"/><Relationship Id="rId340" Type="http://schemas.openxmlformats.org/officeDocument/2006/relationships/slide" Target="slides/slide327.xml"/><Relationship Id="rId341" Type="http://schemas.openxmlformats.org/officeDocument/2006/relationships/slide" Target="slides/slide328.xml"/><Relationship Id="rId342" Type="http://schemas.openxmlformats.org/officeDocument/2006/relationships/slide" Target="slides/slide329.xml"/><Relationship Id="rId343" Type="http://schemas.openxmlformats.org/officeDocument/2006/relationships/slide" Target="slides/slide330.xml"/><Relationship Id="rId344" Type="http://schemas.openxmlformats.org/officeDocument/2006/relationships/slide" Target="slides/slide331.xml"/><Relationship Id="rId345" Type="http://schemas.openxmlformats.org/officeDocument/2006/relationships/slide" Target="slides/slide332.xml"/><Relationship Id="rId346" Type="http://schemas.openxmlformats.org/officeDocument/2006/relationships/slide" Target="slides/slide333.xml"/><Relationship Id="rId347" Type="http://schemas.openxmlformats.org/officeDocument/2006/relationships/slide" Target="slides/slide334.xml"/><Relationship Id="rId348" Type="http://schemas.openxmlformats.org/officeDocument/2006/relationships/slide" Target="slides/slide335.xml"/><Relationship Id="rId349" Type="http://schemas.openxmlformats.org/officeDocument/2006/relationships/slide" Target="slides/slide336.xml"/><Relationship Id="rId350" Type="http://schemas.openxmlformats.org/officeDocument/2006/relationships/slide" Target="slides/slide337.xml"/><Relationship Id="rId351" Type="http://schemas.openxmlformats.org/officeDocument/2006/relationships/slide" Target="slides/slide338.xml"/><Relationship Id="rId352" Type="http://schemas.openxmlformats.org/officeDocument/2006/relationships/slide" Target="slides/slide339.xml"/><Relationship Id="rId353" Type="http://schemas.openxmlformats.org/officeDocument/2006/relationships/slide" Target="slides/slide340.xml"/><Relationship Id="rId354" Type="http://schemas.openxmlformats.org/officeDocument/2006/relationships/slide" Target="slides/slide341.xml"/><Relationship Id="rId355" Type="http://schemas.openxmlformats.org/officeDocument/2006/relationships/slide" Target="slides/slide342.xml"/><Relationship Id="rId356" Type="http://schemas.openxmlformats.org/officeDocument/2006/relationships/slide" Target="slides/slide343.xml"/><Relationship Id="rId357" Type="http://schemas.openxmlformats.org/officeDocument/2006/relationships/slide" Target="slides/slide344.xml"/><Relationship Id="rId358" Type="http://schemas.openxmlformats.org/officeDocument/2006/relationships/slide" Target="slides/slide345.xml"/><Relationship Id="rId359" Type="http://schemas.openxmlformats.org/officeDocument/2006/relationships/slide" Target="slides/slide346.xml"/><Relationship Id="rId360" Type="http://schemas.openxmlformats.org/officeDocument/2006/relationships/slide" Target="slides/slide347.xml"/><Relationship Id="rId361" Type="http://schemas.openxmlformats.org/officeDocument/2006/relationships/slide" Target="slides/slide348.xml"/><Relationship Id="rId362" Type="http://schemas.openxmlformats.org/officeDocument/2006/relationships/slide" Target="slides/slide349.xml"/><Relationship Id="rId363" Type="http://schemas.openxmlformats.org/officeDocument/2006/relationships/slide" Target="slides/slide350.xml"/><Relationship Id="rId364" Type="http://schemas.openxmlformats.org/officeDocument/2006/relationships/slide" Target="slides/slide351.xml"/><Relationship Id="rId365" Type="http://schemas.openxmlformats.org/officeDocument/2006/relationships/slide" Target="slides/slide352.xml"/><Relationship Id="rId366" Type="http://schemas.openxmlformats.org/officeDocument/2006/relationships/slide" Target="slides/slide353.xml"/><Relationship Id="rId367" Type="http://schemas.openxmlformats.org/officeDocument/2006/relationships/slide" Target="slides/slide354.xml"/><Relationship Id="rId368" Type="http://schemas.openxmlformats.org/officeDocument/2006/relationships/slide" Target="slides/slide355.xml"/><Relationship Id="rId369" Type="http://schemas.openxmlformats.org/officeDocument/2006/relationships/slide" Target="slides/slide356.xml"/><Relationship Id="rId370" Type="http://schemas.openxmlformats.org/officeDocument/2006/relationships/slide" Target="slides/slide357.xml"/><Relationship Id="rId371" Type="http://schemas.openxmlformats.org/officeDocument/2006/relationships/slide" Target="slides/slide358.xml"/><Relationship Id="rId372" Type="http://schemas.openxmlformats.org/officeDocument/2006/relationships/slide" Target="slides/slide359.xml"/><Relationship Id="rId373" Type="http://schemas.openxmlformats.org/officeDocument/2006/relationships/slide" Target="slides/slide360.xml"/><Relationship Id="rId374" Type="http://schemas.openxmlformats.org/officeDocument/2006/relationships/slide" Target="slides/slide361.xml"/><Relationship Id="rId375" Type="http://schemas.openxmlformats.org/officeDocument/2006/relationships/slide" Target="slides/slide362.xml"/><Relationship Id="rId376" Type="http://schemas.openxmlformats.org/officeDocument/2006/relationships/slide" Target="slides/slide363.xml"/><Relationship Id="rId377" Type="http://schemas.openxmlformats.org/officeDocument/2006/relationships/slide" Target="slides/slide364.xml"/><Relationship Id="rId378" Type="http://schemas.openxmlformats.org/officeDocument/2006/relationships/slide" Target="slides/slide365.xml"/><Relationship Id="rId379" Type="http://schemas.openxmlformats.org/officeDocument/2006/relationships/slide" Target="slides/slide366.xml"/><Relationship Id="rId380" Type="http://schemas.openxmlformats.org/officeDocument/2006/relationships/slide" Target="slides/slide367.xml"/><Relationship Id="rId381" Type="http://schemas.openxmlformats.org/officeDocument/2006/relationships/slide" Target="slides/slide368.xml"/><Relationship Id="rId382" Type="http://schemas.openxmlformats.org/officeDocument/2006/relationships/slide" Target="slides/slide369.xml"/><Relationship Id="rId383" Type="http://schemas.openxmlformats.org/officeDocument/2006/relationships/slide" Target="slides/slide370.xml"/><Relationship Id="rId384" Type="http://schemas.openxmlformats.org/officeDocument/2006/relationships/slide" Target="slides/slide371.xml"/><Relationship Id="rId385" Type="http://schemas.openxmlformats.org/officeDocument/2006/relationships/slide" Target="slides/slide372.xml"/><Relationship Id="rId386" Type="http://schemas.openxmlformats.org/officeDocument/2006/relationships/slide" Target="slides/slide373.xml"/><Relationship Id="rId387" Type="http://schemas.openxmlformats.org/officeDocument/2006/relationships/slide" Target="slides/slide374.xml"/><Relationship Id="rId388" Type="http://schemas.openxmlformats.org/officeDocument/2006/relationships/slide" Target="slides/slide375.xml"/><Relationship Id="rId389" Type="http://schemas.openxmlformats.org/officeDocument/2006/relationships/slide" Target="slides/slide376.xml"/><Relationship Id="rId390" Type="http://schemas.openxmlformats.org/officeDocument/2006/relationships/slide" Target="slides/slide377.xml"/><Relationship Id="rId391" Type="http://schemas.openxmlformats.org/officeDocument/2006/relationships/slide" Target="slides/slide378.xml"/><Relationship Id="rId392" Type="http://schemas.openxmlformats.org/officeDocument/2006/relationships/slide" Target="slides/slide379.xml"/><Relationship Id="rId393" Type="http://schemas.openxmlformats.org/officeDocument/2006/relationships/slide" Target="slides/slide380.xml"/><Relationship Id="rId394" Type="http://schemas.openxmlformats.org/officeDocument/2006/relationships/slide" Target="slides/slide381.xml"/><Relationship Id="rId395" Type="http://schemas.openxmlformats.org/officeDocument/2006/relationships/slide" Target="slides/slide382.xml"/><Relationship Id="rId396" Type="http://schemas.openxmlformats.org/officeDocument/2006/relationships/slide" Target="slides/slide383.xml"/><Relationship Id="rId397" Type="http://schemas.openxmlformats.org/officeDocument/2006/relationships/slide" Target="slides/slide384.xml"/><Relationship Id="rId398" Type="http://schemas.openxmlformats.org/officeDocument/2006/relationships/slide" Target="slides/slide385.xml"/><Relationship Id="rId399" Type="http://schemas.openxmlformats.org/officeDocument/2006/relationships/slide" Target="slides/slide386.xml"/><Relationship Id="rId400" Type="http://schemas.openxmlformats.org/officeDocument/2006/relationships/slide" Target="slides/slide387.xml"/><Relationship Id="rId401" Type="http://schemas.openxmlformats.org/officeDocument/2006/relationships/slide" Target="slides/slide388.xml"/><Relationship Id="rId402" Type="http://schemas.openxmlformats.org/officeDocument/2006/relationships/slide" Target="slides/slide389.xml"/><Relationship Id="rId403" Type="http://schemas.openxmlformats.org/officeDocument/2006/relationships/slide" Target="slides/slide390.xml"/><Relationship Id="rId404" Type="http://schemas.openxmlformats.org/officeDocument/2006/relationships/slide" Target="slides/slide391.xml"/><Relationship Id="rId405" Type="http://schemas.openxmlformats.org/officeDocument/2006/relationships/slide" Target="slides/slide392.xml"/><Relationship Id="rId406" Type="http://schemas.openxmlformats.org/officeDocument/2006/relationships/slide" Target="slides/slide393.xml"/><Relationship Id="rId407" Type="http://schemas.openxmlformats.org/officeDocument/2006/relationships/slide" Target="slides/slide394.xml"/><Relationship Id="rId408" Type="http://schemas.openxmlformats.org/officeDocument/2006/relationships/slide" Target="slides/slide395.xml"/><Relationship Id="rId409" Type="http://schemas.openxmlformats.org/officeDocument/2006/relationships/slide" Target="slides/slide396.xml"/><Relationship Id="rId410" Type="http://schemas.openxmlformats.org/officeDocument/2006/relationships/slide" Target="slides/slide397.xml"/><Relationship Id="rId411" Type="http://schemas.openxmlformats.org/officeDocument/2006/relationships/slide" Target="slides/slide398.xml"/><Relationship Id="rId412" Type="http://schemas.openxmlformats.org/officeDocument/2006/relationships/slide" Target="slides/slide399.xml"/><Relationship Id="rId413" Type="http://schemas.openxmlformats.org/officeDocument/2006/relationships/slide" Target="slides/slide400.xml"/><Relationship Id="rId414" Type="http://schemas.openxmlformats.org/officeDocument/2006/relationships/slide" Target="slides/slide401.xml"/><Relationship Id="rId415" Type="http://schemas.openxmlformats.org/officeDocument/2006/relationships/slide" Target="slides/slide402.xml"/><Relationship Id="rId416" Type="http://schemas.openxmlformats.org/officeDocument/2006/relationships/slide" Target="slides/slide403.xml"/><Relationship Id="rId417" Type="http://schemas.openxmlformats.org/officeDocument/2006/relationships/slide" Target="slides/slide404.xml"/><Relationship Id="rId418" Type="http://schemas.openxmlformats.org/officeDocument/2006/relationships/slide" Target="slides/slide405.xml"/><Relationship Id="rId419" Type="http://schemas.openxmlformats.org/officeDocument/2006/relationships/slide" Target="slides/slide406.xml"/><Relationship Id="rId420" Type="http://schemas.openxmlformats.org/officeDocument/2006/relationships/slide" Target="slides/slide407.xml"/><Relationship Id="rId4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389-7527-4AB3-9272-BD6F4CCD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7F3-298F-46E1-B20F-063D2501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18DB9-690E-4664-BCF8-B3E89403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62DF9-D0A6-4154-9008-87E9CACC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C3D06-027B-4F53-99C8-34367AFA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67326-710E-4D43-9C59-DAA087CE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FD5C6-6E55-4C0D-99A0-DEAC5E4F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1669D-2ACE-4E6D-B32B-851203C1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9CFE8-639C-4CB6-BB64-A8A6B481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E265A-201B-46A8-ADDA-627A6101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19436-09F3-4980-8B8E-883990FC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B6BA4-D9CF-4AE3-900E-F375F862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6E9-4B09-46A2-ADDB-4BCB1DEA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27059-C027-4ADD-880D-474BF469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EDDB1-0F50-4729-ADBD-C059F430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6BA5A-760F-401C-8653-6A7B281F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89E21-5D06-47A0-B46C-F8F96F1D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9F158-9D21-4919-BCB4-5E0C196E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78905-2365-4A58-B564-0CBF0418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CB4DA-EF44-490C-B0EC-B1E00CCF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279EF-B1AA-49E9-8A96-376073F4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32808-C7C2-48E6-A5F7-F0D9F92D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DAA55-BBE6-4491-9D6E-90458571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02E-CEF5-413B-9AA6-B3AC358C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FBC8A-FA80-4060-A97B-409CA07B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DA854-1059-4C3B-A035-F5921118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507F7-A0E1-49A9-88DF-4E4BE64C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5BCC5-61A1-4636-B5E1-EDFF237E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8C262-7F22-41DC-841F-463C181D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F9A4F-C75B-4733-835F-0E214387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8316C-9230-4FBD-864A-B2AF1893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92F1B-A2CE-4E77-8660-5E5615DE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1F7BE-3D6E-43DF-B725-FCBDAE02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F7F4D-6D08-4648-B9E5-D14A00BC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9C67-BABC-4C2A-A922-583DA874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27A95-02F1-4F35-957D-19A0A278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3089A-5AED-48B2-A03A-B8B441B1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F0BEE-0F56-405D-8291-FCEF0F44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3731C-92E6-4E4D-8295-32C4BFA7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84C8E-A092-480F-9D6E-B550D4BD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13CF9-CA1F-46D8-B37C-8F05A88C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B8EB2-8B0F-45CB-BA86-9FD3217E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CE209-C544-429F-BF1B-11689530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2DA64-3D4A-4C2B-97E0-976C2D09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90889-721C-4B32-B246-D0337AD6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C75E-3F31-4C06-A683-D40C6269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C71DC-A11F-4E55-917C-940D4221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BF2A8-93D0-49A2-BC0F-2A3F2237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986F5-01A9-4D44-992D-DA3B7573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6B0BA-494C-4F90-B0DE-A30A9F1D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FF947-9B73-4259-B519-0F0583D3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433F-E5F6-4F82-945A-6282481E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4239-2ABF-4C13-BDF9-0EE4AD1B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3746-A14D-493B-A76E-4CECBE70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C7F0-0B79-405F-A035-376822DA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0631-5036-484A-BAC6-293EC0E0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F58-0F58-4A7D-9CEC-C416E2AE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50D4-25D1-4181-9C66-8835BEA1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A209-4A92-4DAA-9504-9228D447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615F-5230-45BC-B22B-9480E06A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92CB-45F7-4F0D-8DA3-DD704E24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1C7C-98FB-4FFA-BF3D-4406EA4D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1A6B-28B1-4B86-AFD2-C5C3A0B7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0CEAE-7743-49CC-8D78-E47C9EBE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EDEC3-7578-4B94-ACAE-29762996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A625-82DC-47DD-AC3D-3534D457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851C4-B77A-4D7C-906C-5295D1FF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39A-BF5E-4702-87FF-6ED9775D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612A9-9E62-4875-B912-0BA5FEA0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EEC94-E4CB-498D-A49C-52DCDA7C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1DAB8-727B-46C9-88C6-14C32C48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0F613-15EA-4A47-B1B3-BAE9829F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8ABA-0820-48AC-B3C5-F4218C12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6254E-F200-4FB5-B154-6C0F18A6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12DBA-E12D-4193-9274-9C867579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8C74C-356D-49F5-9EF2-8D1AC566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A7B31-C8A4-4719-A186-84DEDB2D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12951-D065-417C-9D93-FEC55791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493-5EB5-4056-A3BE-7DC7B48D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F80A9-C3CC-4FBB-A01C-713BE616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6F869-34E0-4480-8CCD-99EB397D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102D1-8C99-4037-8E12-5891CD30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800A8-B4E5-4380-B7DE-476F2425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8AA3B-57DB-414B-B039-86E0FCF8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0E52B-4254-4B2E-9F50-15FEEC68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DC58C-7B5D-425E-B614-C957D3A5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40C64-0B6C-4663-A8DF-3C0A5B6A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7EFD4-2226-41E6-86E9-602E48D4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824BF-F779-4248-895C-4126F8B7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D1B-E7C0-4107-8BA5-35AA493E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604BB-BE31-4570-8939-AE9285BC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C02AF-1A4B-4A29-B833-FB2FFF2D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1F064-2953-4EB0-92EC-39FDD239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3E180-4D44-46C7-B9A3-1D7B9BB6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9C975-3047-4C82-9CAB-16100A52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80850-DD5D-45EE-9F17-B82539F4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4F951-F424-453B-AFC2-1CA718C6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0C694-C21A-41BE-827D-A8A19C9C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64162-C723-49AD-A1CD-8126F77B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3428A-10D8-4E09-B0CF-4B1A11C0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B68-FDDB-47F7-BA8D-FC8812B5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EAF8B-3DAA-45E5-B1C0-00536EDA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2E15D-DE38-4ACF-99AA-E09DE37D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19405-4E90-4006-AB87-1D296D8D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36058-C94E-4084-B9C9-5D151408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D3F84-B6C0-4AA2-8C33-7757A4B4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03209-5BCB-48C4-9802-90FE4F62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888A8-708F-412C-837E-301E448F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3E65D-EF2C-4ABE-9C78-F6DDBCF2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5B053-4F55-47D0-AC1B-BD6EC31A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FC691-076E-4FD9-A9B3-2C5C2DEA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A41-E6A4-4AA5-9EB5-DE6E60BF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74E60-1725-49E8-B96C-2A3128FA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D4C69-A741-4FAD-8C88-B0334606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2A1D2-0DD5-41E5-A356-F6F7A10B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DC813-AC61-41FD-9C4A-620D092A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C9626-F4F1-432B-B325-71A85DE2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CAA46-8088-4F28-AA18-054D4248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07CA0-B958-4A06-8011-CD46D4B6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5EDDD-DABF-44AC-8E85-A60010FA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9760C-FC88-4F58-8B20-E2BA74BE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E638F-A9EC-4551-B30D-339939AE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F4A-BB14-46AD-B44B-C486B8FC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08569-4C13-49B2-B75B-F623FC0D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F1C9A-36F8-42C7-AF6D-C75AD420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D0B9D-5489-4C81-9C85-D5DC8630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88FF8-F1EA-40AD-8C4E-BCDAA23E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4D981-C59E-47AD-8289-3A9A4CD0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FD6E7-9701-4FEC-B176-132751EE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46F58-45D5-42DE-B4D5-0D1FDC8A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5484C-2013-4CCB-B2BD-FB9FD263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1A2FF-691F-4CDE-BF52-83BC620C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172EE-7DC0-42B0-88E9-D8F7DDD8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E34-95E5-4595-8BDA-2C22BB9B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E7258-988B-4B08-9F01-6E5AD571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164FC-0CBA-4A6D-91AB-7831E3A0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6CBA7-47B7-4C3C-828B-953466FE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ED568-A0AC-4D93-AF2E-B33A088D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15F0D-37E6-4CC2-B756-FDFB4EB1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B285D-18A3-4370-A2C8-16902098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AE306-3983-44BD-9C96-9388F063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8166D-0DAF-4470-AFC1-DA2A9FCE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480B6-1E2B-4A69-8F43-C0D7C1A8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5022F-7E7B-4F96-A89D-3418F0EC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B2EC-81DE-4514-858B-214C483E862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0026-FC9A-4C9B-9985-4E10E640B32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4477-4740-45CE-A268-C6C6EC4043A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DF4D-708E-4760-9A8B-A71E6DE67AE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9ED0-A9F6-4C48-9DF9-7A0C8228C86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4397-B84E-46E8-B01F-2262F97504E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0392-F604-4742-AFC0-F7AB6F97106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0F12-018E-4E1F-9AEC-0D85151DEC5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E6D9-E7F2-4A88-BA74-56437312B5B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A202-64A5-4E97-877A-D3F090FF43F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FB34-2985-47B6-B015-78DDCE4E0B2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2753-D170-442B-9900-5A830919FA6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403280" y="1628640"/>
            <a:ext cx="6477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ل يستطيع الرب ب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371600" y="2438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الهي رفعت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990720" y="2733840"/>
            <a:ext cx="7086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َ يسوع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ي ويا أمل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يني مت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نّي الخطا صدرا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371600" y="2733840"/>
            <a:ext cx="66294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نجمةَ الصبحِ شعّ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ـي معابدِنـ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نوّري عقلَ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سّمْعَ والبصرا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أيا رب رحما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676520" y="197172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يا ربُّ رحما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شفق عل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قبل قرابينَ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رح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057400" y="1905120"/>
            <a:ext cx="52578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هذي الذبيح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خطاي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ما قد رسمت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فضلٍ عم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523880" y="190512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هو ابنُكَ دوم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كفِّرُ عنّ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ما قد فدا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نوعٍ عج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676520" y="205740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ما قد تجسّ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طوعاً وأجرى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ماهُ الزكيّة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وقَ الصّل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676520" y="197172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يا ربُّ رحما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شفق عل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قبل قرابينَ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رح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057400" y="1905120"/>
            <a:ext cx="52578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هذي الذبيح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خطاي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ما قد رسمت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فضلٍ عم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يفيض قلب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190512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رفعتُ إليكَ يد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فيضُ قلبي بالتهليل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أنكَ علّمتني إرشادا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تغنّى لساني بكلم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هي ثابتةٌ إلـى الأبد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صومُ الذي أُريد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قولُ الربّ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 تُحَلَّ قيودُ الظُلمِ ويُطْلَقَ الـمنسحقونَ أحراراً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صومُ الذي أُريد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قولُ الربّ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 تَفْرُشَ للجائعِ خُبْزَك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تُدخِلَ الـمسكينَ الطريدَ بيتَكَ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فيضُ قلبي بالتهليل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أنكَ علّمتني إرشادا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تغنّى لساني بكلم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هي ثابتةٌ إلـى الأبد.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2844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صومُ الذي أُريده يقولُ الربّ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 تَرى العُريانَ الطريد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تكسُوَهُ، ولا تتهرّ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مساعدةِ قريبـِكَ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ذا سكَبتَ لُقمَتَكَ للجائِع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بَّيتَ حاجةَ البائسينَ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ُشرِقُ في الظلمَةِ نورُك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الظُهرِ تكونُ لياليكَ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فيضُ قلبي بالتهليل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أنكَ علّمتني إرشادا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تغنّى لساني بكلم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هي ثابتةٌ إلـى الأبد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295280" y="134136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أوم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حبات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وادعات... تزهو جنّات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ليلِ العاتي الأمواج.. يعلو سراج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ّ القلبَ الـملقى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 الأحزان... يلقى الحنان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لّي ايما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يمان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ذا شعارُ فداءِ العالمْ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ه الفرحُ، وفيه الحقّ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فيه سلامُ القلب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ريحِ الهوجاءِ شفاه... تتلو الصلاه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فـي صمتِ الكو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ـمُقفلِ... من يصغي ل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ي إذ ترنو عينايَ للسماء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صفو الأضواء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ألحا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كلّي إيمان... إيمان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سيد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خبزُ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يأتني لا يَجُعْ أبد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من يؤمن 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ا يعطش أبداً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جسدي طعامٌ حق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دمي شرابٌ حق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كل جسدي وشرب دم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قام فـيّ وأنا فيه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لّما أكلتم هذا الخبز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شربتم من هذه الكأس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خبرونَ بموتِ الرب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أن يعود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190512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رفعتُ إليكَ يد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295280" y="90792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من لي بأن تكتب أقوالي</a:t>
            </a:r>
            <a:br>
              <a:rPr sz="14200"/>
            </a:b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9144000" cy="13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مَن لي بأن تُكتَب أقوال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ْ تُنقَش في الصخرِ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لى الأبدِ إلى الأبدِ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0" y="0"/>
            <a:ext cx="9144000" cy="11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إني كلّما تذكّرتُ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رتعتُ وأخذَ جسمي الارتعاش.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93600"/>
            <a:ext cx="9144000" cy="65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َّ فاديَّ حيّ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0"/>
            <a:ext cx="9144000" cy="140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 أنَّ فاديَّ حيّ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 وسيقومُ آخراً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لى التُراب وبعد ذل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لبَسُ هذه الأعضاءُ بجلد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93600"/>
            <a:ext cx="9144000" cy="12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بجسدي أُعايِنُ اللهَ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لذي أنا أُعايِنه بنفس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عينايَ تريانه لا غيري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2286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وشع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ـي الأعال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باركٌ الآت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سم الرب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143000" y="160020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طرق أورشلي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طُرُقُ أورشليمَ نائِحَة.. لعدمِ القادمينَ إلى الأعيادْ.. وجميعُ أبوابها متهدّمَهْ..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هذا جسدُكَ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ذا دمُكَ الطاهرُ فاغسل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اغسل يا ربِّ خطايا العالَ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لتَحيَ بروحِكَ أنفسُنا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400" spc="-1" strike="noStrike">
                <a:solidFill>
                  <a:srgbClr val="ffffff"/>
                </a:solidFill>
                <a:latin typeface="Tahoma"/>
                <a:cs typeface="Akhbar MT"/>
              </a:rPr>
              <a:t>كهنتُها مُتنهّدون وعذاراها متحسِّرات وهي في مرارةٍ.</a:t>
            </a:r>
            <a:endParaRPr b="0" lang="en-US" sz="10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ea typeface="Akhbar MT"/>
              </a:rPr>
              <a:t> الربُ صالحٌ للذينَ ينتظرونَهُ للنفسِ التي تلتمسَهُ.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خيرٌ أن يُنتظَر خلاصُ الربِ بسكوتٍ لأن السيّدَ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لا يُقصي إلى الأبد. 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فإنه ولو أَعْنَت، يَرحَمُ بحسبِ كثرةِ رأفتهِ.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عيني تقطُرُ ولا تسكُت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لأنه لا قرارَ لي إلى أن يطلعَ وينظُرَ الربُ من السماء.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عوتُ باسمكَ يا ربّ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سمع صوتي لا تحجُبْ أُذنَكَ عن استغاثت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قتربْ يومَ أدعوك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ذا هو اليو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9144000" cy="10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لذي صنعه الربّ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لنفرح ونتهلَّل به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يقُم الل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تشتّت جميع أعدائ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يهرُب مُبغضوه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مامِ وجهِه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رفعتُ إليكَ يد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يَبيدوا كما يُبَدَّد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دخان وكما يذوب الشمع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مام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جهِ النا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ذلك يهلك الخطأ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مام وجهِه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يفرحُ الصدِّيقون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سروري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للوي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6360" y="1700280"/>
            <a:ext cx="9144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5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6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لاكُ اللامِعُ عندَ القبرْ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الَ لحاملاتِ الطيبْ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ـماذا تَمزُجْنَ الطُيوبَ بالدموعْ باكياتٍ وراثياتْ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أنظرنَ اللحد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فرحنَ لأنَّ الـمخلِّص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قاً قا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371600" y="2438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قاديش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نسجُدُ للآب ولابنهِ ولروحِ قُدْسِهِ ثالوثاً مقدّساً بجوهرٍ واحدٍ صارخينَ معَ السرافيمْ قدّوسٌ أنتَ ياربْ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6360" y="1700280"/>
            <a:ext cx="9144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5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6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بقيومت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9144000" cy="10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َقْيومْتِه دْمَلْكو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شِيحُو نِسَبْ حوسويْ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نَفْشوتَنْ بْهَيْمْنوتُو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َشْررُوا نِيمَارْحُولَ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َوُييتْ لَبْرُودْفَرْقَ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بَصْليبِهِ بْرِيخْ فُرُوقَ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قاديش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914400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َبْخول فينيو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َوْرِبْ دُخْرو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يولِدْتِهْ وَدْقاديشِهْ وَدْعانيدِيه مْهَيمِنيهْ هللويا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َيْلَوتُو دَشْمايو قُويْمي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عامَنْ بْغاوُبتْ قودْشُوا وَمْزايْحِينْ لِيهْ لفاغْرُو دْبَر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وهو دَدْبيحْ قُودْمَي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ْرُوبْ سَابْ مِينِهْ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حُوسوي حَاوْبهْ وَحْطُوهِيهْ هللويا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اديش قاديش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اديشات مور / قُعْيوعيدتو / بريخو دْيَبْلي / فَغْرِه وَدْمه دتحاسِ بـِه.</a:t>
            </a:r>
            <a:r>
              <a:rPr b="1" lang="ar-SA" sz="9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عَالْ مَدْبْحُوخْ مُورْ نِتْدَخْرُونْ أَبُوهَيْنْ واحَينْ وْرَبُونَيْنْ وَنْقُومُونْ مِنْ يَامينُوخْ بْيَومُو دّنْحُو رَابُوتُوخْ مَلْكُو مْشِيحُو هللويا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الكنيس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0" y="0"/>
            <a:ext cx="9144000" cy="10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لكنيسة.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قراء، بسطاء، ومساكين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ذّبت فيهم، ملوكٌ وسلاطين. 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افَ صوتُ الله: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نتم، حيثُ كنتُم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كُم الأرضَ، فثوروا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لتكن رايتكم عبر السنين..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كنيسة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م يكن بعدُ لنا فوقَ تلّ من تلالِ الأرضِ بيت، وأتيت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اً جاء يبني، فبنى..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كنيسة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ي الصباح، نهتف: الله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في عمق الظلام، فلتكن أمّ الجراح، وعلى الأرض السلام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كنيسة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إذا ما الشرُّ ليلٌ لا يُردّ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طغى كلّ قويّ، والمجاذيفُ سُدى في الموج، والأفق شقي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إذا أظلمت الدنيا، وعمَّ الأرض حقد، فلتقاتل، في سبيلِ الشمس، والأطفال، والعدل، وميلاد السنابل.. أَلكنيسة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الرب راع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وهللويا/ وله تشبوحتو ديَبلن فغره / ودمه حايو دِنْتحاسي به.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0" y="11592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ردّ نفسي ويهدين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ى سبل البرّ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ن أجل اسمه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0"/>
            <a:ext cx="9144000" cy="12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ي ولو سلكت في وادي ظلال الموت لا أخاف سوءاً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أنّك مع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صاكَ وعكّازك هما يعزيّان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26028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جودة والرحمة تتبعانني جميع أيام حياتي وسكناي في بيت الربّ طول الأيام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يسوع رب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نا يا نوراً من نورْ جئناكَ وقلبُنا بالحبِ مغمورْ فاقبلْ منّا حبّ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ما لنا حبٌ سوا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نوِّر عقلَنا حتى نرا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ي القربانِ أعطِ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ُ أن نلقا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نا يا نوراً من نورْ جئناكَ وقلبُنا بالحبِ مغمورْ فاقبلْ منّا حبّ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ودشُخ نِهوِا مِتكَشْفنُو / بْدينو حْلُفَيْن قْدُم هُوي بيما /دْمَلْيُو دِحلو وعَزيزوتو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مَّنا يا مريمُ البكرُ ندعوك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يُرنِّمُ نحنُ بنوك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ِنكِ نتقدَّمُ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اركينا نرجوكِ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نا يا نوراً من نورْ جئناكَ وقلبُنا بالحبِ مغمورْ فاقبلْ منّا حبّ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من قا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914400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نا القيامة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ن آمن ب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حيا وإن م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0"/>
            <a:ext cx="9144000" cy="10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نحن الذين لنا باكورةُ الروح، نئنُّ منتظرين التبنّي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فتداءَ أجسادِنا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914400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ذا كان أحد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ـي الـمس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هو خلقٌ جديد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ُ 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ن يصنع العجائب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إن طلبتُ تكريس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جيب الطلبَ؟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وهللويا/ وله تشبوحتو دْشُتْيو مِنِه/ عيدتو ويَلْديه وزُمرين شوبحو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479600" y="162576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هللويا افرح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18900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افرح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شعوبَ العال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سع الضوءِ افرح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شعوبَ العال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0"/>
            <a:ext cx="9144000" cy="11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فليكن اسم الربِّ مباركاً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نذ الآ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إلـى أبدِ الآبدي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914400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ذي صنعه الرّب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عالَوا نُسَرّ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نفرح في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0"/>
            <a:ext cx="914400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ذي لا يومَ مثله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ا قبل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لا بعد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 العظي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كليل كلّ ع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جمال كلّ ع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هتاف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ترنيم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لعود والكنارة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لبوقِ والقيثارة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كلّ نسمة فلتسبّح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836640"/>
            <a:ext cx="9144000" cy="10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هتافِ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ترنيمِ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كلّ نسمة فلتسبّح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52280" y="7632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ابِل مورَنْ بَحْنُنُخْ /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ِنْ سُوغودَيْك قُوربُنا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ْحوس بْطَيْبوتُخ ألوهَن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َلْ نَفشوتو دعانيدِه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من مشرق الشمس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إلـى مغربه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كلّ نسمة فلتسبّح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كل التسبيح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9144000" cy="70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تسب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ليقُ بك يا ألل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كر ومد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ليل لك يا رب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عبك يا رب يسبح اسم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ل القوات تسجد ل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ملائكة تعظم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 الطري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تسب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ليق بك يا ألل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كر ومد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قليل لك يا ربا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914400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حّدنا دوماً بروح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نعمل مشيئت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ن الأعماق نصرخ ل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نحبّك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تسب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ليقُ بك يا ألل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كر ومد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قليل لك يا ربا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ربي عظيم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91440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ربي عظيمةٌ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ُّ أعمالِكَ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َنا القدير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هو قوربونو إِتْقاراب/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ْهُو نَفْشوتو مِتْدَخْرُن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نِهْوِ به نْيُوحُو لـمِيتِه دَحْلُفِيهون إتقاراب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9144000" cy="9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عدلٌ وحقٌ كل أحكام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أنت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لك الدهور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0" y="0"/>
            <a:ext cx="9144000" cy="12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ffffff"/>
                </a:solidFill>
                <a:latin typeface="Tahoma"/>
                <a:cs typeface="Akhbar MT"/>
              </a:rPr>
              <a:t>من لا يمجد اسمك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ffffff"/>
                </a:solidFill>
                <a:latin typeface="Tahoma"/>
                <a:cs typeface="Akhbar MT"/>
              </a:rPr>
              <a:t>يارب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0" y="0"/>
            <a:ext cx="9144000" cy="9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ن لا يخاف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قدس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 الشعوب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ستنحني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0"/>
            <a:ext cx="9144000" cy="11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أن مجدك سيُرى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هللويا هللوي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آمي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826920" y="1052640"/>
            <a:ext cx="7596360" cy="43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هوذ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الخلاص وافى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0" y="0"/>
            <a:ext cx="9144000" cy="11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ذا الخلاصُ واف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فرَحْ ولنبتَهِجْ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َيومُنا هذا عظيمٌ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9144000" cy="9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بِّي أنتَ مُنقذي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مَلجأي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بـِكَ اعتَصَمتُ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ي يَتوقُ للقيامَةِ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ركْن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قبَلْ رَجائي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9144000" cy="11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ذا الخلاصُ واف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فرَحْ ولنبتَهِجْ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َيومُنا هذا عظيمٌ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قوربونو هُون دِاتقاراب/ من حَايو حْلُفْ عانيدِه/ متحاسيه عَوْلوه دْنَفشو/ وْمِشْتَبْقين لُو بوصوره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ي، يا قوَّتي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رَفَعتَ نفس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ماء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كَ أُشيدُ يا فاديَّ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نتَ الحيُّ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َدَى الدُّهورِ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9144000" cy="11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ذا الخلاصُ واف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فرَحْ ولنبتَهِجْ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َيومُنا هذا عظيمٌ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صلاتك مع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صلاتُكِ مع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أطهرَ العبا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وني عَون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سبَ المُعتا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هوذا حالُ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لتَلَفِ أشرَف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رحمينا ي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بريئةً من الفسا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بتولُ صلِّ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لأجل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ئلاّ نهلِ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ن قِبَل شرِّ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1258920" y="184464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إيماني ساطع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52280" y="1905120"/>
            <a:ext cx="86108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مهما تأخر جايي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وما بيضيع اللي جايي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عا غفله بيوصَل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من قلب</a:t>
            </a:r>
            <a:r>
              <a:rPr b="1" lang="ar-LB" sz="8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الضوّ من خَلف الغيم، 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52280" y="2057400"/>
            <a:ext cx="8610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ahoma"/>
                <a:cs typeface="Akhbar MT"/>
              </a:rPr>
              <a:t>وما حدا بيعرف</a:t>
            </a:r>
            <a:endParaRPr b="0" lang="en-US" sz="9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ahoma"/>
                <a:cs typeface="Akhbar MT"/>
              </a:rPr>
              <a:t>هَللي جايي</a:t>
            </a:r>
            <a:endParaRPr b="0" lang="en-US" sz="9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ahoma"/>
                <a:cs typeface="Akhbar MT"/>
              </a:rPr>
              <a:t>كيف بيبقى جايي. </a:t>
            </a:r>
            <a:endParaRPr b="0" lang="en-US" sz="9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َاو دَقْرو لِه لْلْعُزُر/ وْلَعْليَموْ بْرُ دَرْمَلْتو هو نِروس طالو دْرَحْمه عَلْ غَرْمَيْهون دْعَانيده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28600" y="0"/>
            <a:ext cx="8915400" cy="13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ما بيتكسَّر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ولا بيتعب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533520"/>
            <a:ext cx="9144000" cy="79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وإنتَ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	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cs typeface="Akhbar MT"/>
              </a:rPr>
              <a:t>اللي ما بتنساني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.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28600" y="152280"/>
            <a:ext cx="8915400" cy="11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أنا إيماني الفرح الوسيع ومن خلف العواصف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جايي الربيع</a:t>
            </a:r>
            <a:r>
              <a:rPr b="1" lang="ar-LB" sz="10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228600" y="162000"/>
            <a:ext cx="8915400" cy="131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إذا كبـرت أحزاني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ونسيني العمر التاني،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إنتَ اللي ما بتنساني.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28600" y="0"/>
            <a:ext cx="8915400" cy="13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ما بيتكسَّر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ولا بيتعب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0" y="533520"/>
            <a:ext cx="9144000" cy="79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وإنتَ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	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cs typeface="Akhbar MT"/>
              </a:rPr>
              <a:t>اللي ما بتنساني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.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258920" y="184464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بيتي أنا بيتك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755640" y="2049480"/>
            <a:ext cx="7488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بيتي أنا بيتك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وما إلي حدا،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من كتر ما نادَيتك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وسع الـمدى.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وريشلِمْ دَلْعِلْ/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َبْعيدتو ديت عَلْ أرْعو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ْعَلْ مَدِبْحو بْرومَو/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ِهوِى دوخرونُو طُبُو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55640" y="2049480"/>
            <a:ext cx="7488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نطرتك عَ بابي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وعَ كلّ البواب،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كتبتلّك عذابي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عَ شمس الغياب.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9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ني لا تنساني</a:t>
            </a:r>
            <a:endParaRPr b="0" lang="en-US" sz="10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900" spc="-1" strike="noStrike">
                <a:solidFill>
                  <a:srgbClr val="ffffff"/>
                </a:solidFill>
                <a:latin typeface="Tahoma"/>
                <a:cs typeface="Akhbar MT"/>
              </a:rPr>
              <a:t>ما إلى غيرك</a:t>
            </a:r>
            <a:endParaRPr b="0" lang="en-US" sz="10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900" spc="-1" strike="noStrike">
                <a:solidFill>
                  <a:srgbClr val="ffffff"/>
                </a:solidFill>
                <a:latin typeface="Tahoma"/>
                <a:cs typeface="Akhbar MT"/>
              </a:rPr>
              <a:t>لا تنساني. </a:t>
            </a:r>
            <a:endParaRPr b="0" lang="en-US" sz="10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لدي صارت منفى، طرقاتي غطّاها الشوك والأعشاب  البريّه، ابعتلي بهالليل من عندك حدا يطلّ عليّ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ني لا تنساني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يا شمس الـمساكين،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ن أرض الخوف منندهلك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ن إيام المظلومين،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ن لفتات الموعودين،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عم اندهلك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خلّي يدوّي صوتك عليّي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أنا عالوعد وقلبي طاير، صوبك غنيّه.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539640" y="2060640"/>
            <a:ext cx="8209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زهرة من زهور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اركني ساعد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الدمع بتزرع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الفرح بتحصد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539640" y="2049480"/>
            <a:ext cx="79930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دلك فاض علي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رمك ضوّا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ذا كلّن نسيو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حدك ما بتنسان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611280" y="1916280"/>
            <a:ext cx="78483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ناديتك من حز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 إنك مع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ْسعي يا مطارح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يا أرض اركع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258920" y="184464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فلنحمل ما دام نهار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ِمرِه دالوهو وْرُعْيو/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ْمِيت مِطولْ عُونِه ْعبدْ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ُورْ بطيبوتُخْ نيُحُو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ْعنيدِهْ مْهَيمِنه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فلنحمل ما دامَ نهار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بُشراهُ في كلِ الأرض.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ea typeface="Akhbar MT"/>
              </a:rPr>
              <a:t> شربنا كأس الآلام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أزحنا حجرَ القبر.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صرنا أحراراً كالنسمة أطهاراً كدموع الفجر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فلنحمل ما دامَ نهار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بُشراهُ في كلِ الأرض.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لبسنا درعَ الإيمان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ورفعنا علمَ الحبّ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لنعلنَ من قلبِ الظلمة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نور خلاصِ الانسان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فلنحمل ما دامَ نهار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بُشراهُ في كلِ الأرض.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908000" y="0"/>
            <a:ext cx="5410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Tahoma"/>
              </a:rPr>
              <a:t>يا أم الل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 الله يا حنونة يا كنز الرحمة المعونة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أنتِ ملجانا عليكِ رجانا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تشفّعي فينا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يا عذراء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وتحنّني على موتانا.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وإن كانَ جسمُك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بعيداً منّا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أيتها البتولُ أمُّنا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صلواتُكِ هي تَصحبُنا وتكونُ معَنا وتَحفظُنا.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ْفَغْروخ صَهْيُوي نَفْشْ دِقْروب صيدَاوْ دُحِلنُو حَوْباي مْزِيعينْ لِي بَحْنُونُخْ مُورْ نِتْحاسُونْ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بجاهِ من شرّفكِ على العالـمين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حين ظهر منكِ ظهوراً مبين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أطلبي منه للخاطئين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الـمراحم</a:t>
            </a:r>
            <a:r>
              <a:rPr b="1" lang="ar-LB" sz="11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لدهر الداهرين.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نتِ أمُّنا ورجانا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نتِ فخرُنا ومَلجانا 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عندَ ابنك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إشفعي في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ليغفر برأفتِهِ خطايانا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ينا يا حنونة يا مملوءة كلّ نعمة 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بل خلِّصي عبيدَكِ أجمعينْ لنشكُرَكِ لدهرِ الداهرين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حبك يا مري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1476360" y="0"/>
            <a:ext cx="6227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حبّك يا مريم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غاية الـمنى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 المعظّم كوني أمنّا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1547640" y="0"/>
            <a:ext cx="572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سلام سلا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لكِ يا مري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619280" y="0"/>
            <a:ext cx="601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بنك اوصاك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نا في الصليب أعطانا إياك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شخص الحبيب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دُوتُو لْعِلُوِيه وسَبْرو طُبُو لْتَحْتُويه بقوربونو دْعُبْدينْ حايِه حْلُوفْ عَانِيدَيْهُونْ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403280" y="0"/>
            <a:ext cx="572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سلام سلا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لكِ يا مري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258920" y="0"/>
            <a:ext cx="601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الأمّ الحنون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كِ نستعين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ظهري الـمعون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نكِ للبنين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1547640" y="0"/>
            <a:ext cx="572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سلام سلا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لكِ يا مري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547640" y="0"/>
            <a:ext cx="5639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Tahoma"/>
              </a:rPr>
              <a:t>مجد مريم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292428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جدُ مريم يتعظّ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الـمشارق والغروب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رّموها عظّمو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لّكوها في القلوب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1844640"/>
            <a:ext cx="906768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د رآها واصطفا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ربُّ كلِّ العالـمين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وقاها مُذ برا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لَّ محذورٍ يشين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-250920" y="2036880"/>
            <a:ext cx="939492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هي رجاكُم في شقاك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اسمعوا يا خاطئين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ا تخافوا أن توافو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ِحماها طالب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292428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جدُ مريم يتعظّ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الـمشارق والغروب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رّموها عظّمو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لّكوها في القلوب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547640" y="0"/>
            <a:ext cx="5639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700" spc="-1" strike="noStrike">
                <a:solidFill>
                  <a:srgbClr val="ffffff"/>
                </a:solidFill>
                <a:latin typeface="Tahoma"/>
                <a:ea typeface="Tahoma"/>
              </a:rPr>
              <a:t>Viens Esprit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838080" y="1371600"/>
            <a:ext cx="7162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طوبى للساعي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0" y="20368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تعالَ يا روح الآب، كُن نور دربي أنِرْ السماوات من بهاء مجدك العظيم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20368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تعالَ أيها النور السماوي، يا نبع الحياة قوّي قلوبنا واشفِ أجساد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20368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روح البهجة، يا فرح الكنيسة أعطِ القلوب أن ترنِّم لحن الحنان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راحل يا ربيع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ربيعي راحل على طول قلّي يا ربيعي على أيّا حق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أملنا عَ بوابْ العيد صوتك حاملنا لعهد جدي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َحْ اقطف زهرة من كلّ سياج واعملّك بكرا من الزنبق تاج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يا دِنيي حاج تودّي امواج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ا كلامو بيفنى ولا بيز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ربيعي راحل على طول قلّي يا ربيعي على أيّا حق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أملنا عَ بوابْ العيد صوتك حاملنا لعهد جدي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اعي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لام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فإنّهم أبناء اللهِ يُدعو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ين بدّو يجمعنا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يقود الرسالة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لا المعلّم معنا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لا حكمو الغوالي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يا ريتك عم تسمع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من الأول ترجع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عالبحيرة توعظنا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تحت الشجر نتجمع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ربيعي راحل على طول قلّي يا ربيعي على أيّا حق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أملنا عَ بوابْ العيد صوتك حاملنا لعهد جدي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أرسل روح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روحَ يصلّي فيكم بأنات لا توصف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1989000"/>
            <a:ext cx="914400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روحُ الربِّ يرفرف على الـمياه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191628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إن الروحَ يشهد مع أرواحنا بأننا أبناء الله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سلامُ اللهِ يحفَظ قلوبَ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أفكارَكم بالـمسيح يسوع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سلامُ لكم جميعاً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نتمُ الذينَ في الـمسيح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300" spc="-1" strike="noStrike">
                <a:solidFill>
                  <a:srgbClr val="ffffff"/>
                </a:solidFill>
                <a:latin typeface="Tahoma"/>
                <a:cs typeface="Tahoma"/>
              </a:rPr>
              <a:t>الروح يجمع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0" y="-1445400"/>
            <a:ext cx="9001080" cy="9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ماءُ ما صار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طحينُ خبز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أصبحنا سكنى الله</a:t>
            </a:r>
            <a:r>
              <a:rPr b="1" lang="ar-LB" sz="96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-1281960"/>
            <a:ext cx="9001080" cy="9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زيتُ ما أعطى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سراجُ نور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فرش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نورَ ال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0" y="-1818720"/>
            <a:ext cx="9144000" cy="10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حبُ ما كان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قلبُ حي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عرف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ُبَّ ال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0" y="-1711080"/>
            <a:ext cx="9144000" cy="10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نورُ ما أعطى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وردُ عطر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نثر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عطرَ ال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اعي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لام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فإنّهم أبناء اللهِ يُدعو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835280" y="0"/>
            <a:ext cx="5148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يا قلبا فاد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ُرضي جلالَك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َ يسوع المج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357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عودُ إن رأى جمالَك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ِن هذه الدنيا سَع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كنزي خيري حظِّي حياتي مجدي أيا بحرَ الصلاح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371628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تاقَت نفسي إليكَ تأت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َبها من حِلمِك السماحْ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0" y="189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قبَلني في قلبك الزاه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مُنقِذي كي أستريح 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ملك أنتَ في قلبي الواهي واجعلُهُ بالحبِ جريحْ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وقام إيليا كالنار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200" spc="-1" strike="noStrike">
                <a:solidFill>
                  <a:srgbClr val="ffffff"/>
                </a:solidFill>
                <a:latin typeface="Tahoma"/>
                <a:cs typeface="Akhbar MT"/>
              </a:rPr>
              <a:t>ليصفح بعضُكم عن بعضٍ</a:t>
            </a:r>
            <a:endParaRPr b="0" lang="en-US" sz="10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200" spc="-1" strike="noStrike">
                <a:solidFill>
                  <a:srgbClr val="ffffff"/>
                </a:solidFill>
                <a:latin typeface="Tahoma"/>
                <a:cs typeface="Akhbar MT"/>
              </a:rPr>
              <a:t>كما صفحَ اللهُ عنكم</a:t>
            </a:r>
            <a:endParaRPr b="0" lang="en-US" sz="10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200" spc="-1" strike="noStrike">
                <a:solidFill>
                  <a:srgbClr val="ffffff"/>
                </a:solidFill>
                <a:latin typeface="Tahoma"/>
                <a:cs typeface="Akhbar MT"/>
              </a:rPr>
              <a:t>في الـمسيح.</a:t>
            </a:r>
            <a:endParaRPr b="0" lang="en-US" sz="10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547640" y="0"/>
            <a:ext cx="62661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امَ ايليّا كالنا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توقَّدَ كلامُهُ كالمشعل ما أعظم مجد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ايليا في عجائب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24000" y="149400"/>
            <a:ext cx="88200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يها الذي استدعاك الربّ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ى جبلِ الكرمل للصلاةْ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 الذي أقمت ميتاً من الموت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من الجحيم بكلامِ العليّ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547640" y="76320"/>
            <a:ext cx="62661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امَ ايليّا كالنا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توقَّدَ كلامُهُ كالمشعل ما أعظم مجد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ايليا في عجائب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0" y="1873080"/>
            <a:ext cx="914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روحُ الربِّ عليَّ لأنهُ مسَحَني لأُبَشِّرَ المساكين أرسلني لأشفي منكسري القلوب لأُنادي للأسرى بالحرية للعميان بعودةِ البصرِ إليهم لأُحَرِّر المظلومي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1835280" y="0"/>
            <a:ext cx="62658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امَ ايليّا كالنا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توقَّدَ كلامُهُ كالمشعل ما أعظم مجد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ايليا في عجائب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835280" y="0"/>
            <a:ext cx="5148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هلم إيلي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1835280" y="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0" y="2592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سكبت علينا ايليا الندى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هاتِ الرغيفَ وزيتَ الهدى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نحيا لحبِّ السما والفد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619280" y="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7632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صرفتِ صيدا قتلت الأثي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رى ما عملت لتحيي الرمي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ترفعَ عرشَ الإلهِ العظيم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اعي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لام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فإنّهم أبناء اللهِ يُدعو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692360" y="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10332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ينادون بعلاً، تناجي الإله، تقول: أنا أرتوي برؤاه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أباركُ ما قدسته يداه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835280" y="7632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أعطيني الكل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كلام تَغنِّيلَك حُب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ُبّ بيبتدي با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حياة والإيمان بقلبي مَرّه هالعمر بينعَطَى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صلا تَ لاقيك قبالي وإركع على دراج السم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وفا تَ وافيك بحالي واعطيني العطا ل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كلام تَغنِّيلَك حُب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ُبّ بيبتدي با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حياة والإيمان بقلبي مَرّه هالعمر بينعَطَى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هادي العطا للقلوب العالي أعطيني الطفوله، الحنان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واعطيني السلام لِوطني الغالي واعطي للّي راحوا الأمان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كلام تَغنِّيلَك حُب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ُبّ بيبتدي با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حياة والإيمان بقلبي مَرّه هالعمر بينعَطَى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ألحمد والشكر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العالم جائع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ذي يَحفظ وصاياك ويعتصمُ في ظلِّ جَناحي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ثمر بالبرّ والقداس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يفرحُ في ملكوتك لا لا لا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0" y="0"/>
            <a:ext cx="9144000" cy="163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ذين يتقونك لا يبرحون يسبّحونك لا يجوعون لا يعطشون من نبع الحياة يرتوون لا لا لا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ذين أتوا من الضيقِ يلوّحون بأغصان النخيل بدمِ الحمل غسلوا حلله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روح يحلّ فوقهم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جائع وخُبزُ السماء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خُبزُ الحياة خُبزُ سلامِ الأرضِ فخذوا عن مائدتي الخبز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يأكلَ العالمْ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شو حلوه السم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0" y="0"/>
            <a:ext cx="9144000" cy="12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شبّه يا ابني بالمس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عن إيمانك أوعى تز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امشي عا الدرب الصح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توصل ع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0" y="0"/>
            <a:ext cx="9144000" cy="12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ارك يا ابني بجماع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زراع الكلمه بشجاع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خدوم الإخوه بوداع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توصل ع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0" y="0"/>
            <a:ext cx="9144000" cy="10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ارك يا ابني بالأسرار وبإيمانك لا تحتار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را إنجيلك باستمرار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توصل ع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يا رب استعملني لسلام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-3240"/>
            <a:ext cx="9144000" cy="90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 صوتُ الرجاءْ.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رب، إستعملني لسلامِكَ فأضع الحبَّ حيثُ البُغض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ـمغفرةَ حيثُ الإساءَة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اتفاقَ حيثُ الخلاف، 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0" y="312912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الحقيقةَ حيثُ الضلال،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الإيمانَ حيثُ الشكّ،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َ حيثُ اليأس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0" y="182736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نورَ حيثُ الظلمة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فرحَ حيثُ الكآبة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 استعملني لسلامك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1835280" y="0"/>
            <a:ext cx="5148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الرب هو الل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عبدِ الربّ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بالفرحِ والحمدِ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لنهتفنَّ 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لنرفعِ الأيد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غنّوا ورنّمو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بأعذبِ الألحا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بالأيدي صفّقو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سيّدِ الأكوان 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باسمِ إلهـِن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سنرفعُ الرايات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وبخلاصِه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ستعلو الترنيمات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152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عُريان والأرضُ غنيّ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كنَّ الإنسانْ سرقوا منهُ الثوبَ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سرقوا الحبَ.. فخذوا ثوبي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ثوبَ الحقِ ليَلبَسَ العالَمْ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ea typeface="Tahoma"/>
              </a:rPr>
              <a:t> يا خبز الحيا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0" y="2131920"/>
            <a:ext cx="914400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أيُّها التائبون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لمّوا باحترا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قتبلوا الإ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هي رجائ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نعيمي نعمت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ذّتي الـمبتغ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سماءِ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كُنْ لي قوت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ـى دهرِ الدهور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755640" y="1916280"/>
            <a:ext cx="75963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لإلهنا النصر والمج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9144000" cy="90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 صوتُ الرجاءْ.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76320" y="10008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إلهـِنا النصرُ والمجد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الحياة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أن أحكامَه عدلٌ وحق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سبحوا إلهَ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جميعَ العبا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لذين يتّقونَ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ن صغار وكبار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76320" y="10008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إلهـِنا النصرُ والمجد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الحياة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أن أحكامَه عدلٌ وحق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مدعوّين إلى وليمة العرس لنفرح ونبتهج هللويا وهللوي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76320" y="10008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إلهـِنا النصرُ والمجد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الحياة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أن أحكامَه عدلٌ وحق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دّوسٌ، قدّوسٌ، قدّوسٌ أنتَ الربُّ القويُّ الإلهُ الصباؤوت، السماءُ والأرضُ مملوءتان من مجدك  العظي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152280" y="-7632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على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باركٌ الآتي باسمِ  الربّ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على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دّوسٌ، قدّوسٌ، قدّوسٌ أنتَ قدّوسٌ أيها الربُّ القويُّ إلهُ الصباؤوت، السماءُ والأرضُ مملوءتان من مجدك  العظي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52280" y="-7632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أعالي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باركٌ الذي أت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سوف يأتي باسمِ  الربّ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أعالي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هِ فـي العل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على الأرض السلا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ُ الصالحُ لبني البشر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 أ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قدّس ذا الجسد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ع ضعفِهِ وإثمِه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ه يحلّ للمد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عرفت بأن قد تعثر درب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4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فتَح اللهمَّ شفتَيّ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يخبر فمي بمجدك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فتح اللهمَّ شفتَيّ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يرتّلَ فمي تسبيحَك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0" y="0"/>
            <a:ext cx="9144000" cy="116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آبِ والابن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وحِ القدس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على الأرض السلا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ُ الصالحُ لبني البشر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1835280" y="1667880"/>
            <a:ext cx="579600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Tahoma"/>
              </a:rPr>
              <a:t>إذهبوا في الأرض كل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4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0" y="-3200760"/>
            <a:ext cx="9144000" cy="13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هبوا في الأرض كلِّها وأَعلنوا  البشارةَ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خلقِ أجمَعين</a:t>
            </a:r>
            <a:r>
              <a:rPr b="1" lang="ar-LB" sz="114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-4848480"/>
            <a:ext cx="9144000" cy="165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ُضئ نورُكم للناس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مجّدوا أباكُمُ الذ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سماوات</a:t>
            </a:r>
            <a:r>
              <a:rPr b="1" lang="ar-LB" sz="119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-3200760"/>
            <a:ext cx="9144000" cy="13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هبوا في الأرض كلِّها وأَعلنوا  البشارةَ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خلقِ أجمَعين</a:t>
            </a:r>
            <a:r>
              <a:rPr b="1" lang="ar-LB" sz="114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0" y="-3634920"/>
            <a:ext cx="9144000" cy="14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يكونَّنَ عليكم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حدٍ دينٌ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اّ حُبُّ بعضِكُم لبعض</a:t>
            </a:r>
            <a:r>
              <a:rPr b="1" lang="ar-LB" sz="119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-3200760"/>
            <a:ext cx="9144000" cy="13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هبوا في الأرض كلِّها وأَعلنوا  البشارةَ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خلقِ أجمَعين</a:t>
            </a:r>
            <a:r>
              <a:rPr b="1" lang="ar-LB" sz="114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295200"/>
            <a:ext cx="9144000" cy="10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نهبتُ الطريقَ أسائلُ عنك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بحيرةِ ضعفي وأوهامي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سمعتُ الخليقةَ تُنشِدُ لحن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لقلبي فتنعش إيمان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َلَت لي الإقامةُ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اخلَ بيت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</a:t>
            </a:r>
            <a:r>
              <a:rPr b="1" lang="ar-LB" sz="90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8568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شجاني أنينُ اليتيم يضيعُ بصخبِ الحياة ولا من يجيب رأيت عيونَ الشريدِ تتيهُ وشمسُ المحبةِ عنهُ تغيب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85680"/>
            <a:ext cx="9144000" cy="67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أشرِقْ عليَّ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بأنوارِ وجهِك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8568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ذا غبت عنِّي شردتُ بذاتي غرقتُ بحزني دهاني الضجر وإن كنت فيَّ حييتُ فرحتُ نثرتُ الطيوبَ فرشتُ الزهر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85680"/>
            <a:ext cx="9144000" cy="67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تطيب الحياة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تطيب بقربك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توبوا إلى الرب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856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9144000" cy="134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هَبْ من حنانِكَ قطرةً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يتحوَّلُ القفر وعود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أو أعطي عيني دمعةً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في حوضها طفلاً أعود.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856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عمقِ آثامي دع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نصِت إلـى صوتِ دُع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غيرَ وجهِك ما رج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لقاهُ مأدبةُ رجا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ُ أ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شغل مواه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قدّساً عواطف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مجدِ من أحبّن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1522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إذا استبدَّ بيَ الخج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 أبكمَ العارُ فم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نبضاتُ حبِّكَ فلْتزَ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تى النهايةِ في دم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856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يا أبانا لس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أدر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-7632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أبانا لستُ أدر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يفَ كان عمري يجر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ونَ أن أدركَ أن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ت أبي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-7632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كنّي الآن ابن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ت ترعاني بحبِّ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لن أخافَ أبداً لأنّ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مسك يميني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9144000" cy="68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سأسبِّح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أهتفُ ل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أبد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لك للأبد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371600" y="2438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قامت مري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امت مريم بنتُ داو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ذاء العو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ندب إبنَها الـمصلو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أيدي الجنو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محُ الحزنِ غائص في نفسه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من ألَـمِهِ غابت عن حسِّه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ثمّ فاقتِ الوالد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صاحت آه يا ولدا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بيبي حبي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ولداه خاطب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يف أراك عريا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ا أندبَك يا إب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جاعك حرقت اكباد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آلامك خرقت فؤاد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يف تحيا والدت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ولداه بعدَ موت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عزّ أم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ثمرثها الفريد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وحيد أبي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صورته الـمجيد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فتراقك كسكين جرحت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عذابك كحربة طعنت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سمح لي أموت قبل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ا أنظر احوالك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ثمرة احش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ا هذه الحال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ماؤك تجر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لضربات بك حالّ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يرثي لحالي من جرائ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يمزج دمائي بدمائ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لوبٌ في الصل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أمُّك تزيد في النح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ا هذه الكلو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 جسمك الطاه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بدلت حُسن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جمالك الزاه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هاءُ وجهك تغيّر بالإصفرا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دموعك تذرف كالأمطا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سراتك أذابت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ذاباتك أوهتن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َ يسوع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نتَ الآبِ الأكر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عروس الروح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قدوسِ الأعظ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شركينا بآلام فاد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زيّنينا بنعمة بار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نخدمَكِ على الدوا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دى الساعاتِ والأيام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ُ بي أ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باركَ في خدمَت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كرّساً لمجدِه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كلّي له بجُملت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2286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عطش الأرواح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َ يكف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ربك يهد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ينك تحم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ورك يغنينا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رنيم الأنهار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ن لحنك نغمة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شراق الأنوار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ن وجهك بسمة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عنا نصغي إلي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بر هدوء الهياكل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عنا نصغي إلي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بر ضحيح الـمعامل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ك يحي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مرك يرو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 يعط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وراً وحياة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صوتك يدعو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ورك يهد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فوك يكف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شكراً يا يسوع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219320" y="1600200"/>
            <a:ext cx="64767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إلى الله صوت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له صوت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أَصرخ إلى الله صوت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صيح لي..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دي في الليل انبسطت ولم تكل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د أبت نفسي أن تتعزى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ذكرُ الـماضي فأَقلقُ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تامل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غشى على روحي..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-7632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كّرتُ فـي الأيام القديمة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ـي السنين الدهرية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ذكرُ ترنيمي في الليل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تأملُ بقلبي وروحي يبحث.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0"/>
            <a:ext cx="9144000" cy="13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مَدى الدهور يقصي السّيد؟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ا يعود يرضى من بعد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على الدوام انقضت رحمته،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نقطعت كلمت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جيل فجيل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ترى نسيَ الله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م حبس على الغضب أحشاءه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مريم البكر فقت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676520" y="2962440"/>
            <a:ext cx="5867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مريمُ البكرُ فقت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شمسَ والقمر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كلَّ نجمٍ بأفلاك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سماءِ سرى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09:03:08Z</dcterms:created>
  <dc:creator>-</dc:creator>
  <dc:description/>
  <dc:language>en-US</dc:language>
  <cp:lastModifiedBy>-</cp:lastModifiedBy>
  <dcterms:modified xsi:type="dcterms:W3CDTF">2003-01-07T14:49:30Z</dcterms:modified>
  <cp:revision>62</cp:revision>
  <dc:subject>Chants religieux</dc:subject>
  <dc:title>PowerPoint Presentation</dc:title>
</cp:coreProperties>
</file>